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4A7-09B3-4376-A1D5-806CD1C4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B21-6E5A-4962-8796-7FF0ADBF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8C4F-650E-4E7D-81E8-81A79F62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B40-D2B8-40BF-90F0-F85AF91E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038-E739-406F-9313-75C34D3C8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DB5-6355-4D78-86D9-5E497F71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4F5-EF02-4CEF-ABA5-26E69A21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D7A-AC4A-4E1A-9D71-29DC0BE9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369-DEA1-48DD-B93B-733F2EA1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E91-65FF-4F8F-A456-9F30E5E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026-8AE3-4EB2-971F-F1B93D1F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626-F933-47E2-82DF-97B78F55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02F7-324B-4C40-BAC4-FCA34069107B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2270160" y="2565360"/>
            <a:ext cx="604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琥珀"/>
                <a:ea typeface="华文琥珀"/>
              </a:rPr>
              <a:t>语文园地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948400" y="1052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771640" y="54878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3365640" y="140328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帆船风儿吹着走，远洋轮船走五洲。挖泥船疏通航道，潜水艇儿海底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捕鱼船儿把网拉，宇宙飞船上月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3365640" y="98100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大轮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（杜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轮船大，像座楼，房间走廊样样有。乘上长江大轮船，水浪哗哗去旅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到南京，到汉口，床走人走水也走。回到家里住大楼，夜里梦见大楼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3"/>
          <p:cNvSpPr/>
          <p:nvPr/>
        </p:nvSpPr>
        <p:spPr>
          <a:xfrm>
            <a:off x="2340000" y="1700280"/>
            <a:ext cx="136836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2484360" y="17859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627280" y="227664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4067280" y="1557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sh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è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桃花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会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茂盛。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4032360" y="2637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ch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é</a:t>
            </a: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nɡ 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盛饭、盛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3"/>
          <p:cNvSpPr/>
          <p:nvPr/>
        </p:nvSpPr>
        <p:spPr>
          <a:xfrm>
            <a:off x="2050920" y="1700280"/>
            <a:ext cx="1368720" cy="129708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19564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盛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340000" y="227664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8"/>
          <p:cNvSpPr/>
          <p:nvPr/>
        </p:nvSpPr>
        <p:spPr>
          <a:xfrm>
            <a:off x="3419640" y="1700280"/>
            <a:ext cx="1368360" cy="1297080"/>
          </a:xfrm>
          <a:prstGeom prst="ellipse">
            <a:avLst/>
          </a:prstGeom>
          <a:solidFill>
            <a:srgbClr val="eb6fc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3564000" y="178596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床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铺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3780000" y="2279520"/>
            <a:ext cx="936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1"/>
          <p:cNvSpPr/>
          <p:nvPr/>
        </p:nvSpPr>
        <p:spPr>
          <a:xfrm>
            <a:off x="4788000" y="1628640"/>
            <a:ext cx="1368360" cy="1295640"/>
          </a:xfrm>
          <a:prstGeom prst="ellipse">
            <a:avLst/>
          </a:prstGeom>
          <a:solidFill>
            <a:srgbClr val="92d05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4932360" y="17002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种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148360" y="220500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4"/>
          <p:cNvSpPr/>
          <p:nvPr/>
        </p:nvSpPr>
        <p:spPr>
          <a:xfrm>
            <a:off x="6156360" y="1628640"/>
            <a:ext cx="1368360" cy="1295640"/>
          </a:xfrm>
          <a:prstGeom prst="ellipse">
            <a:avLst/>
          </a:prstGeom>
          <a:solidFill>
            <a:srgbClr val="a98991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6300720" y="17146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好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6443640" y="220500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17"/>
          <p:cNvSpPr/>
          <p:nvPr/>
        </p:nvSpPr>
        <p:spPr>
          <a:xfrm>
            <a:off x="1979640" y="4149720"/>
            <a:ext cx="1368360" cy="1295280"/>
          </a:xfrm>
          <a:prstGeom prst="ellipse">
            <a:avLst/>
          </a:prstGeom>
          <a:solidFill>
            <a:srgbClr val="badee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8"/>
          <p:cNvSpPr/>
          <p:nvPr/>
        </p:nvSpPr>
        <p:spPr>
          <a:xfrm>
            <a:off x="2268360" y="4724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9"/>
          <p:cNvSpPr/>
          <p:nvPr/>
        </p:nvSpPr>
        <p:spPr>
          <a:xfrm>
            <a:off x="212400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重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20"/>
          <p:cNvSpPr/>
          <p:nvPr/>
        </p:nvSpPr>
        <p:spPr>
          <a:xfrm>
            <a:off x="3348000" y="4151160"/>
            <a:ext cx="1368360" cy="1297080"/>
          </a:xfrm>
          <a:prstGeom prst="ellipse">
            <a:avLst/>
          </a:prstGeom>
          <a:solidFill>
            <a:srgbClr val="8a879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1"/>
          <p:cNvSpPr/>
          <p:nvPr/>
        </p:nvSpPr>
        <p:spPr>
          <a:xfrm>
            <a:off x="3635280" y="472752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2"/>
          <p:cNvSpPr/>
          <p:nvPr/>
        </p:nvSpPr>
        <p:spPr>
          <a:xfrm>
            <a:off x="3492360" y="4222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教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23"/>
          <p:cNvSpPr/>
          <p:nvPr/>
        </p:nvSpPr>
        <p:spPr>
          <a:xfrm>
            <a:off x="4716360" y="4149720"/>
            <a:ext cx="1368360" cy="129528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5003640" y="4724280"/>
            <a:ext cx="1081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5"/>
          <p:cNvSpPr/>
          <p:nvPr/>
        </p:nvSpPr>
        <p:spPr>
          <a:xfrm>
            <a:off x="4859280" y="422100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口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号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26"/>
          <p:cNvSpPr/>
          <p:nvPr/>
        </p:nvSpPr>
        <p:spPr>
          <a:xfrm>
            <a:off x="6084720" y="4149720"/>
            <a:ext cx="1366920" cy="1295280"/>
          </a:xfrm>
          <a:prstGeom prst="ellipse">
            <a:avLst/>
          </a:prstGeom>
          <a:solidFill>
            <a:srgbClr val="9986c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7"/>
          <p:cNvSpPr/>
          <p:nvPr/>
        </p:nvSpPr>
        <p:spPr>
          <a:xfrm>
            <a:off x="6372360" y="4724280"/>
            <a:ext cx="431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8"/>
          <p:cNvSpPr/>
          <p:nvPr/>
        </p:nvSpPr>
        <p:spPr>
          <a:xfrm>
            <a:off x="6227640" y="42210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干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29"/>
          <p:cNvSpPr/>
          <p:nvPr/>
        </p:nvSpPr>
        <p:spPr>
          <a:xfrm>
            <a:off x="7451640" y="4149720"/>
            <a:ext cx="1368360" cy="12952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0"/>
          <p:cNvSpPr/>
          <p:nvPr/>
        </p:nvSpPr>
        <p:spPr>
          <a:xfrm>
            <a:off x="7740720" y="4724280"/>
            <a:ext cx="107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1"/>
          <p:cNvSpPr/>
          <p:nvPr/>
        </p:nvSpPr>
        <p:spPr>
          <a:xfrm>
            <a:off x="7596360" y="422100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难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灾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2"/>
          <p:cNvSpPr/>
          <p:nvPr/>
        </p:nvSpPr>
        <p:spPr>
          <a:xfrm>
            <a:off x="7524720" y="1630440"/>
            <a:ext cx="1368360" cy="129708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3"/>
          <p:cNvSpPr/>
          <p:nvPr/>
        </p:nvSpPr>
        <p:spPr>
          <a:xfrm>
            <a:off x="7812000" y="2206800"/>
            <a:ext cx="100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7667640" y="1703520"/>
            <a:ext cx="14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5"/>
          <p:cNvSpPr/>
          <p:nvPr/>
        </p:nvSpPr>
        <p:spPr>
          <a:xfrm>
            <a:off x="2573280" y="2997360"/>
            <a:ext cx="545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根据词语的意思来猜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加点的多音字的读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5009400" y="860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读一读，注意加点的字，看谁读得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"/>
          <p:cNvSpPr/>
          <p:nvPr/>
        </p:nvSpPr>
        <p:spPr>
          <a:xfrm>
            <a:off x="3059280" y="1989000"/>
            <a:ext cx="1368360" cy="1295640"/>
          </a:xfrm>
          <a:prstGeom prst="ellipse">
            <a:avLst/>
          </a:prstGeom>
          <a:solidFill>
            <a:srgbClr val="68b898"/>
          </a:solidFill>
          <a:ln w="12600">
            <a:solidFill>
              <a:srgbClr val="6eb2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916360" y="1989000"/>
            <a:ext cx="2087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土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顽皮地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3708360" y="2492280"/>
            <a:ext cx="432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23"/>
          <p:cNvSpPr/>
          <p:nvPr/>
        </p:nvSpPr>
        <p:spPr>
          <a:xfrm>
            <a:off x="5724360" y="1919160"/>
            <a:ext cx="1368720" cy="1295640"/>
          </a:xfrm>
          <a:prstGeom prst="ellipse">
            <a:avLst/>
          </a:prstGeom>
          <a:solidFill>
            <a:srgbClr val="e1d369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6012000" y="2495520"/>
            <a:ext cx="576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5"/>
          <p:cNvSpPr/>
          <p:nvPr/>
        </p:nvSpPr>
        <p:spPr>
          <a:xfrm>
            <a:off x="5796000" y="199080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数不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29"/>
          <p:cNvSpPr/>
          <p:nvPr/>
        </p:nvSpPr>
        <p:spPr>
          <a:xfrm>
            <a:off x="5796000" y="4222800"/>
            <a:ext cx="1368360" cy="1297080"/>
          </a:xfrm>
          <a:prstGeom prst="ellipse">
            <a:avLst/>
          </a:prstGeom>
          <a:solidFill>
            <a:srgbClr val="a1e3b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0"/>
          <p:cNvSpPr/>
          <p:nvPr/>
        </p:nvSpPr>
        <p:spPr>
          <a:xfrm>
            <a:off x="6516720" y="4799160"/>
            <a:ext cx="719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1"/>
          <p:cNvSpPr/>
          <p:nvPr/>
        </p:nvSpPr>
        <p:spPr>
          <a:xfrm>
            <a:off x="5940360" y="429588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跟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睡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32"/>
          <p:cNvSpPr/>
          <p:nvPr/>
        </p:nvSpPr>
        <p:spPr>
          <a:xfrm>
            <a:off x="3059280" y="4221000"/>
            <a:ext cx="1368360" cy="1295640"/>
          </a:xfrm>
          <a:prstGeom prst="ellipse">
            <a:avLst/>
          </a:prstGeom>
          <a:solidFill>
            <a:srgbClr val="f5b9d4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3"/>
          <p:cNvSpPr/>
          <p:nvPr/>
        </p:nvSpPr>
        <p:spPr>
          <a:xfrm>
            <a:off x="3348000" y="4797360"/>
            <a:ext cx="611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4"/>
          <p:cNvSpPr/>
          <p:nvPr/>
        </p:nvSpPr>
        <p:spPr>
          <a:xfrm>
            <a:off x="3203640" y="4292640"/>
            <a:ext cx="143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长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1"/>
          <p:cNvSpPr/>
          <p:nvPr/>
        </p:nvSpPr>
        <p:spPr>
          <a:xfrm>
            <a:off x="2340000" y="1892160"/>
            <a:ext cx="6624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标点符号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句中有停顿，加只小蝌蚪（，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句话说完，画个小圆圈（。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疑惑或发问，耳朵坠耳环（？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命令或感叹，滴水下屋檐（！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337500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字词句运用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"/>
          <p:cNvSpPr/>
          <p:nvPr/>
        </p:nvSpPr>
        <p:spPr>
          <a:xfrm>
            <a:off x="3254760" y="8604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给下面的句子加上标点，再读一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3374280" y="2124000"/>
            <a:ext cx="4106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阵秋风吹过 树叶像蝴蝶一样飘落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去公园玩  公园里花真多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这棵树的叶子真奇怪  是什么树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菱形 6"/>
          <p:cNvSpPr/>
          <p:nvPr/>
        </p:nvSpPr>
        <p:spPr>
          <a:xfrm>
            <a:off x="2050920" y="2276640"/>
            <a:ext cx="320760" cy="28872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菱形 17"/>
          <p:cNvSpPr/>
          <p:nvPr/>
        </p:nvSpPr>
        <p:spPr>
          <a:xfrm>
            <a:off x="2050920" y="310356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菱形 18"/>
          <p:cNvSpPr/>
          <p:nvPr/>
        </p:nvSpPr>
        <p:spPr>
          <a:xfrm>
            <a:off x="2050920" y="3933720"/>
            <a:ext cx="320760" cy="2872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f5b9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427640" y="2133720"/>
            <a:ext cx="47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    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，          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1"/>
          <p:cNvSpPr/>
          <p:nvPr/>
        </p:nvSpPr>
        <p:spPr>
          <a:xfrm>
            <a:off x="4500720" y="105264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清清天气晴，小小青蛙大眼睛。保护禾苗吃害虫，做了不少好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请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2330280" y="8604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有趣的儿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5"/>
          <p:cNvSpPr/>
          <p:nvPr/>
        </p:nvSpPr>
        <p:spPr>
          <a:xfrm>
            <a:off x="3590280" y="530064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找找看，这首儿歌里哪些字很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"/>
          <p:cNvSpPr/>
          <p:nvPr/>
        </p:nvSpPr>
        <p:spPr>
          <a:xfrm>
            <a:off x="4518000" y="1042920"/>
            <a:ext cx="430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小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8000"/>
                </a:solidFill>
                <a:latin typeface="楷体"/>
                <a:ea typeface="楷体"/>
              </a:rPr>
              <a:t>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河水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清天气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，小小青蛙大眼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保护禾苗吃害虫，做了不少好事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请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你爱护小青蛙，好让禾苗不生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1"/>
          <p:cNvSpPr/>
          <p:nvPr/>
        </p:nvSpPr>
        <p:spPr>
          <a:xfrm>
            <a:off x="2268360" y="1474920"/>
            <a:ext cx="633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把 爸 吧    包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饱 抱 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放 防 房    青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清 晴 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马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妈 蚂 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4166640" y="422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还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4550760" y="5148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54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3419640" y="3338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救护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用来（     ）的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"/>
          <p:cNvSpPr/>
          <p:nvPr/>
        </p:nvSpPr>
        <p:spPr>
          <a:xfrm>
            <a:off x="3798720" y="765000"/>
            <a:ext cx="3221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趣味识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饭能吃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水把茶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足快快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手轻轻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衣穿长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有火放鞭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4214160" y="4724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你又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3132000" y="5373720"/>
            <a:ext cx="57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形旁表义  声旁表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  ）  好（  ）  尾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子 （  ）学  正（  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  ）蚁   是（  ） 开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  ）  （  ）天  （  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1908000" y="1484280"/>
            <a:ext cx="69120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巴  把  爸  方  放  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楷体"/>
                <a:ea typeface="楷体"/>
              </a:rPr>
              <a:t>蚂  吗  饱  炮  清  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吧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尾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房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子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学  正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方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蚂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蚁   是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炮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吃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天  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2246040" y="860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0033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2340000" y="188424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火巴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嘴吧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开方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放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好妈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灯炮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肉饱子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炮茶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泡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包经风霜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饱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晴明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山青水秀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清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蜻蛙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青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  雨过天清（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晴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的发现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4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火眼金睛大比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志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志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来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会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3"/>
          <p:cNvSpPr/>
          <p:nvPr/>
        </p:nvSpPr>
        <p:spPr>
          <a:xfrm>
            <a:off x="2060640" y="2170080"/>
            <a:ext cx="683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者事竟成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后汉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当存高远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诫外生书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志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不在年高。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——《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传家宝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同心圆 4"/>
          <p:cNvSpPr/>
          <p:nvPr/>
        </p:nvSpPr>
        <p:spPr>
          <a:xfrm>
            <a:off x="2195640" y="2276640"/>
            <a:ext cx="360360" cy="360360"/>
          </a:xfrm>
          <a:custGeom>
            <a:avLst/>
            <a:gdLst/>
            <a:ahLst/>
            <a:rect l="l" t="t" r="r" b="b"/>
            <a:pathLst>
              <a:path w="360362" h="360363">
                <a:moveTo>
                  <a:pt x="0" y="180182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2"/>
                </a:cubicBezTo>
                <a:cubicBezTo>
                  <a:pt x="360362" y="279694"/>
                  <a:pt x="279692" y="360364"/>
                  <a:pt x="180181" y="360364"/>
                </a:cubicBezTo>
                <a:cubicBezTo>
                  <a:pt x="80670" y="360364"/>
                  <a:pt x="0" y="279694"/>
                  <a:pt x="0" y="180182"/>
                </a:cubicBezTo>
                <a:close/>
                <a:moveTo>
                  <a:pt x="90091" y="180182"/>
                </a:moveTo>
                <a:cubicBezTo>
                  <a:pt x="90091" y="229938"/>
                  <a:pt x="130426" y="270273"/>
                  <a:pt x="180182" y="270273"/>
                </a:cubicBezTo>
                <a:cubicBezTo>
                  <a:pt x="229938" y="270273"/>
                  <a:pt x="270273" y="229938"/>
                  <a:pt x="270273" y="180182"/>
                </a:cubicBezTo>
                <a:cubicBezTo>
                  <a:pt x="270273" y="130426"/>
                  <a:pt x="229938" y="90091"/>
                  <a:pt x="180182" y="90091"/>
                </a:cubicBezTo>
                <a:cubicBezTo>
                  <a:pt x="130426" y="90091"/>
                  <a:pt x="90091" y="130426"/>
                  <a:pt x="90091" y="180182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同心圆 5"/>
          <p:cNvSpPr/>
          <p:nvPr/>
        </p:nvSpPr>
        <p:spPr>
          <a:xfrm>
            <a:off x="2195640" y="328464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心圆 6"/>
          <p:cNvSpPr/>
          <p:nvPr/>
        </p:nvSpPr>
        <p:spPr>
          <a:xfrm>
            <a:off x="2195640" y="4221000"/>
            <a:ext cx="360360" cy="360360"/>
          </a:xfrm>
          <a:custGeom>
            <a:avLst/>
            <a:gdLst/>
            <a:ahLst/>
            <a:rect l="l" t="t" r="r" b="b"/>
            <a:pathLst>
              <a:path w="360362" h="360362">
                <a:moveTo>
                  <a:pt x="0" y="180181"/>
                </a:moveTo>
                <a:cubicBezTo>
                  <a:pt x="0" y="80670"/>
                  <a:pt x="80670" y="0"/>
                  <a:pt x="180181" y="0"/>
                </a:cubicBezTo>
                <a:cubicBezTo>
                  <a:pt x="279692" y="0"/>
                  <a:pt x="360362" y="80670"/>
                  <a:pt x="360362" y="180181"/>
                </a:cubicBezTo>
                <a:cubicBezTo>
                  <a:pt x="360362" y="279692"/>
                  <a:pt x="279692" y="360362"/>
                  <a:pt x="180181" y="360362"/>
                </a:cubicBezTo>
                <a:cubicBezTo>
                  <a:pt x="80670" y="360362"/>
                  <a:pt x="0" y="279692"/>
                  <a:pt x="0" y="180181"/>
                </a:cubicBezTo>
                <a:close/>
                <a:moveTo>
                  <a:pt x="90091" y="180181"/>
                </a:moveTo>
                <a:cubicBezTo>
                  <a:pt x="90091" y="229937"/>
                  <a:pt x="130426" y="270272"/>
                  <a:pt x="180182" y="270272"/>
                </a:cubicBezTo>
                <a:cubicBezTo>
                  <a:pt x="229938" y="270272"/>
                  <a:pt x="270273" y="229937"/>
                  <a:pt x="270273" y="180181"/>
                </a:cubicBezTo>
                <a:cubicBezTo>
                  <a:pt x="270273" y="130425"/>
                  <a:pt x="229938" y="90090"/>
                  <a:pt x="180182" y="90090"/>
                </a:cubicBezTo>
                <a:cubicBezTo>
                  <a:pt x="130426" y="90090"/>
                  <a:pt x="90091" y="130425"/>
                  <a:pt x="90091" y="180181"/>
                </a:cubicBezTo>
                <a:close/>
              </a:path>
            </a:pathLst>
          </a:custGeom>
          <a:solidFill>
            <a:srgbClr val="f5b9d4"/>
          </a:solidFill>
          <a:ln w="19080">
            <a:solidFill>
              <a:srgbClr val="f09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7"/>
          <p:cNvSpPr/>
          <p:nvPr/>
        </p:nvSpPr>
        <p:spPr>
          <a:xfrm>
            <a:off x="3276720" y="494172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老骥伏枥，志在千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烈士暮年，壮心不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日积月累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"/>
          <p:cNvSpPr/>
          <p:nvPr/>
        </p:nvSpPr>
        <p:spPr>
          <a:xfrm>
            <a:off x="1908000" y="86040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我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7" descr=""/>
          <p:cNvPicPr/>
          <p:nvPr/>
        </p:nvPicPr>
        <p:blipFill>
          <a:blip r:embed="rId1"/>
          <a:stretch/>
        </p:blipFill>
        <p:spPr>
          <a:xfrm rot="20739600">
            <a:off x="1861920" y="1503360"/>
            <a:ext cx="3130560" cy="234936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9" descr=""/>
          <p:cNvPicPr/>
          <p:nvPr/>
        </p:nvPicPr>
        <p:blipFill>
          <a:blip r:embed="rId2"/>
          <a:stretch/>
        </p:blipFill>
        <p:spPr>
          <a:xfrm rot="1819800">
            <a:off x="5627160" y="1481040"/>
            <a:ext cx="3089520" cy="231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" descr=""/>
          <p:cNvPicPr/>
          <p:nvPr/>
        </p:nvPicPr>
        <p:blipFill>
          <a:blip r:embed="rId3"/>
          <a:stretch/>
        </p:blipFill>
        <p:spPr>
          <a:xfrm rot="1199400">
            <a:off x="2298600" y="4257720"/>
            <a:ext cx="2746440" cy="219708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1" descr=""/>
          <p:cNvPicPr/>
          <p:nvPr/>
        </p:nvPicPr>
        <p:blipFill>
          <a:blip r:embed="rId4"/>
          <a:stretch/>
        </p:blipFill>
        <p:spPr>
          <a:xfrm rot="19762800">
            <a:off x="5681160" y="429552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8" descr=""/>
          <p:cNvPicPr/>
          <p:nvPr/>
        </p:nvPicPr>
        <p:blipFill>
          <a:blip r:embed="rId5"/>
          <a:stretch/>
        </p:blipFill>
        <p:spPr>
          <a:xfrm>
            <a:off x="3887640" y="2565360"/>
            <a:ext cx="2880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鲁班为什么会发明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3708360" y="1916280"/>
            <a:ext cx="29480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善于观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勤于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乐于动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2050920" y="831960"/>
            <a:ext cx="1657440" cy="1317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698840" cy="1312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3"/>
          <a:stretch/>
        </p:blipFill>
        <p:spPr>
          <a:xfrm>
            <a:off x="5364000" y="836640"/>
            <a:ext cx="1586160" cy="13129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" descr=""/>
          <p:cNvPicPr/>
          <p:nvPr/>
        </p:nvPicPr>
        <p:blipFill>
          <a:blip r:embed="rId4"/>
          <a:stretch/>
        </p:blipFill>
        <p:spPr>
          <a:xfrm>
            <a:off x="6950160" y="836640"/>
            <a:ext cx="1793880" cy="1312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7" descr=""/>
          <p:cNvPicPr/>
          <p:nvPr/>
        </p:nvPicPr>
        <p:blipFill>
          <a:blip r:embed="rId5"/>
          <a:stretch/>
        </p:blipFill>
        <p:spPr>
          <a:xfrm>
            <a:off x="2050920" y="3933720"/>
            <a:ext cx="151308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8" descr=""/>
          <p:cNvPicPr/>
          <p:nvPr/>
        </p:nvPicPr>
        <p:blipFill>
          <a:blip r:embed="rId6"/>
          <a:stretch/>
        </p:blipFill>
        <p:spPr>
          <a:xfrm>
            <a:off x="3564000" y="3933720"/>
            <a:ext cx="143964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9" descr=""/>
          <p:cNvPicPr/>
          <p:nvPr/>
        </p:nvPicPr>
        <p:blipFill>
          <a:blip r:embed="rId7"/>
          <a:stretch/>
        </p:blipFill>
        <p:spPr>
          <a:xfrm>
            <a:off x="4932360" y="393372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0" descr=""/>
          <p:cNvPicPr/>
          <p:nvPr/>
        </p:nvPicPr>
        <p:blipFill>
          <a:blip r:embed="rId8"/>
          <a:stretch/>
        </p:blipFill>
        <p:spPr>
          <a:xfrm>
            <a:off x="6443640" y="3897360"/>
            <a:ext cx="2300400" cy="1116000"/>
          </a:xfrm>
          <a:prstGeom prst="rect">
            <a:avLst/>
          </a:prstGeom>
          <a:ln w="0">
            <a:noFill/>
          </a:ln>
        </p:spPr>
      </p:pic>
      <p:sp>
        <p:nvSpPr>
          <p:cNvPr id="66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大胆说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2411280" y="1916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文中的这些伟人给你留下了怎样的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411280" y="3689280"/>
            <a:ext cx="61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你觉得他们为什么会取得成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341640" y="1506600"/>
            <a:ext cx="12776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我爱阅读</a:t>
            </a:r>
            <a:r>
              <a:rPr b="1" lang="en-US" sz="3600" spc="-1" strike="noStrike">
                <a:solidFill>
                  <a:srgbClr val="009900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1908000" y="860400"/>
            <a:ext cx="49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课外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"/>
          <p:cNvSpPr/>
          <p:nvPr/>
        </p:nvSpPr>
        <p:spPr>
          <a:xfrm>
            <a:off x="2195640" y="249228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课后请大家再去找一些名人的故事来阅读，还可以和同学一起讲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384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1908000" y="213372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       jiù          mó  tuō         f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  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908000" y="4954680"/>
            <a:ext cx="7032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yú       huò     yóu lún   kē    k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Arial Unicode MS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 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5"/>
          <p:cNvSpPr/>
          <p:nvPr/>
        </p:nvSpPr>
        <p:spPr>
          <a:xfrm>
            <a:off x="2987640" y="150660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轿车  救护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摩托车  消防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2916360" y="375444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渔船  货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油轮  科学考察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3006720" y="1628640"/>
            <a:ext cx="531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轿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摩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防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渔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货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油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轮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科</a:t>
            </a: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207000" y="1506600"/>
            <a:ext cx="18262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识字加油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"/>
                <a:ea typeface="楷体"/>
              </a:rPr>
              <a:t>板块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"/>
          <p:cNvSpPr/>
          <p:nvPr/>
        </p:nvSpPr>
        <p:spPr>
          <a:xfrm>
            <a:off x="3365640" y="1052640"/>
            <a:ext cx="430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小板凳，连一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当做汽车开出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邮政车，穿绿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信件包裹装肚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救护车，穿白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病人伤员抱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消防车，穿红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喷水灭火跑得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轿车排成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颜色真好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追我赶跑得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像汽车在比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公共汽车可真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椅子整齐排排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走过一站又一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上他下都是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大货车长又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各种货物满满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城市乡村到处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建设祖国立功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5292720" y="1414440"/>
            <a:ext cx="23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2195640" y="50148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2411280" y="981000"/>
            <a:ext cx="36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洒水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洗马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洗马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啦啦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3851280" y="27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消防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灭火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灭火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5292720" y="4565520"/>
            <a:ext cx="360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是一辆救护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要开去救病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救病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快快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5803920" y="1197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556000" y="4653000"/>
            <a:ext cx="23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我是一辆特别的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6:46:11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