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0907-E23F-4670-B8C4-9533BB156ED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D5DE-9128-447C-B395-520286156A5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D205-C171-4DA8-ABB8-9816DC1E78D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DE26-E617-4CF4-A4C4-E2329B80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4793-C313-4C00-9450-1A79651D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522B-4C84-42AA-B4BF-043E9989F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069C-19B0-4574-AE9D-CE7C32454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AC53-60BA-4C7B-B409-80AF5667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DDED-6F5D-4BDC-BC3C-EEE6FA5C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C9A8-592E-4D85-92E2-24003581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C28C-C9D3-4004-B67A-64DC9A4C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DA56-7D83-4438-BE62-A9FAB29C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483D-4D58-4A43-ABF3-EA02E4F5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D3DD-5683-4EE7-BF05-FA06BBFB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52A7-AA0A-4497-8DB4-FBDE904A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18E0-2309-49C5-A5B3-D477A830B003}" type="slidenum">
              <a:rPr b="0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5" descr="0N_)R`RQXD[}`MSVS4%0]2O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1714680" y="2698920"/>
            <a:ext cx="6235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幼圆"/>
                <a:ea typeface="幼圆"/>
              </a:rPr>
              <a:t>15. </a:t>
            </a:r>
            <a:r>
              <a:rPr b="1" lang="zh-CN" sz="6000" spc="-1" strike="noStrike">
                <a:solidFill>
                  <a:srgbClr val="000000"/>
                </a:solidFill>
                <a:latin typeface="幼圆"/>
                <a:ea typeface="幼圆"/>
              </a:rPr>
              <a:t>大禹治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324440" y="10382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部编教材二年级上册第六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2786040" y="5110200"/>
            <a:ext cx="60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江苏省江阴市陆桥实验小学    陆宇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11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214720" y="2357280"/>
            <a:ext cx="600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"/>
          <p:cNvSpPr/>
          <p:nvPr/>
        </p:nvSpPr>
        <p:spPr>
          <a:xfrm>
            <a:off x="2862720" y="500040"/>
            <a:ext cx="286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继续</a:t>
            </a: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治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1571760" y="1928880"/>
            <a:ext cx="556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吸取教训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"/>
          <p:cNvSpPr/>
          <p:nvPr/>
        </p:nvSpPr>
        <p:spPr>
          <a:xfrm>
            <a:off x="2934000" y="342900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疏导治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/>
          <p:cNvSpPr/>
          <p:nvPr/>
        </p:nvSpPr>
        <p:spPr>
          <a:xfrm>
            <a:off x="2330280" y="3714840"/>
            <a:ext cx="131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2421000" y="507204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（疏导、开通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2241720" y="-712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楷体"/>
                <a:ea typeface="楷体"/>
              </a:rPr>
              <a:t>jìx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26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5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5572080" y="18572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357120" y="1714680"/>
            <a:ext cx="8501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毒蛇猛兽</a:t>
            </a:r>
            <a:r>
              <a:rPr b="0" lang="zh-CN" sz="8000" spc="-1" strike="noStrike">
                <a:solidFill>
                  <a:srgbClr val="ff0000"/>
                </a:solidFill>
                <a:latin typeface="楷体"/>
                <a:ea typeface="楷体"/>
              </a:rPr>
              <a:t>被</a:t>
            </a: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驱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农业生产渐渐</a:t>
            </a:r>
            <a:r>
              <a:rPr b="0" lang="zh-CN" sz="8000" spc="-1" strike="noStrike">
                <a:solidFill>
                  <a:srgbClr val="ff0000"/>
                </a:solidFill>
                <a:latin typeface="楷体"/>
                <a:ea typeface="楷体"/>
              </a:rPr>
              <a:t>恢</a:t>
            </a: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安居乐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6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5572080" y="18572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0" y="1143000"/>
            <a:ext cx="8501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驱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3274560" y="29289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（赶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3658320" y="17859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5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2"/>
          <p:cNvSpPr/>
          <p:nvPr/>
        </p:nvSpPr>
        <p:spPr>
          <a:xfrm>
            <a:off x="142920" y="1500120"/>
            <a:ext cx="871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"/>
          <p:cNvSpPr/>
          <p:nvPr/>
        </p:nvSpPr>
        <p:spPr>
          <a:xfrm>
            <a:off x="500040" y="15638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大家在被水淹过的土地上耕种，农业生产渐渐恢复了，百姓重新过上了</a:t>
            </a:r>
            <a:r>
              <a:rPr b="0" lang="zh-CN" sz="5400" spc="-1" strike="noStrike">
                <a:solidFill>
                  <a:srgbClr val="ff0000"/>
                </a:solidFill>
                <a:latin typeface="楷体"/>
                <a:ea typeface="楷体"/>
              </a:rPr>
              <a:t>安居乐业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的生活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5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"/>
          <p:cNvSpPr/>
          <p:nvPr/>
        </p:nvSpPr>
        <p:spPr>
          <a:xfrm>
            <a:off x="142920" y="1500120"/>
            <a:ext cx="871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"/>
          <p:cNvSpPr/>
          <p:nvPr/>
        </p:nvSpPr>
        <p:spPr>
          <a:xfrm>
            <a:off x="0" y="1357200"/>
            <a:ext cx="857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3"/>
          <p:cNvSpPr/>
          <p:nvPr/>
        </p:nvSpPr>
        <p:spPr>
          <a:xfrm>
            <a:off x="642960" y="1143000"/>
            <a:ext cx="771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禹离开了家乡，一去就是十三年。这十三年里，他到处奔走，曾经三次路过自己家门口。可是他认为治水要紧，一次也没有走进家门看一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5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2"/>
          <p:cNvSpPr/>
          <p:nvPr/>
        </p:nvSpPr>
        <p:spPr>
          <a:xfrm>
            <a:off x="142920" y="1500120"/>
            <a:ext cx="871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"/>
          <p:cNvSpPr/>
          <p:nvPr/>
        </p:nvSpPr>
        <p:spPr>
          <a:xfrm>
            <a:off x="0" y="1357200"/>
            <a:ext cx="857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3"/>
          <p:cNvSpPr/>
          <p:nvPr/>
        </p:nvSpPr>
        <p:spPr>
          <a:xfrm>
            <a:off x="642960" y="1143000"/>
            <a:ext cx="771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禹离开了家乡，一去就是</a:t>
            </a: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十三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年。这十三年里，他到处奔走，曾经</a:t>
            </a: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三次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路过自己家门口。可是他认为治水要紧，</a:t>
            </a: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一次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也没有走进家门看一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123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2"/>
          <p:cNvSpPr/>
          <p:nvPr/>
        </p:nvSpPr>
        <p:spPr>
          <a:xfrm>
            <a:off x="2247120" y="428760"/>
            <a:ext cx="48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三过家门而不入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6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5572080" y="18572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357120" y="128736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按照提示，复述故事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285840" y="2948040"/>
            <a:ext cx="8786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洪水使人们生活痛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鲧用筑坝挡水的办法，没有治好洪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禹治水，三过家门而不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禹用疏通河道的办法，带领人们治好了洪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曲线连接符 8"/>
          <p:cNvCxnSpPr/>
          <p:nvPr/>
        </p:nvCxnSpPr>
        <p:spPr>
          <a:xfrm>
            <a:off x="6714720" y="2857680"/>
            <a:ext cx="85788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6480">
            <a:solidFill>
              <a:srgbClr val="bbe0e3"/>
            </a:solidFill>
            <a:miter/>
            <a:tailEnd len="med" type="arrow" w="med"/>
          </a:ln>
        </p:spPr>
      </p:cxn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6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5572080" y="18572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428760" y="1000080"/>
            <a:ext cx="785808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读一读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2000160" y="2805120"/>
            <a:ext cx="685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洪  难  道  灾    认  被  产  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4" descr="t01c54c823b104db13b.jpg"/>
          <p:cNvPicPr/>
          <p:nvPr/>
        </p:nvPicPr>
        <p:blipFill>
          <a:blip r:embed="rId1"/>
          <a:stretch/>
        </p:blipFill>
        <p:spPr>
          <a:xfrm>
            <a:off x="0" y="1928880"/>
            <a:ext cx="9144000" cy="492912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0" y="571680"/>
            <a:ext cx="89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大禹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夏后氏首领、夏朝开国君王。他最卓著的功绩，就是历来被传颂的治理了滔天洪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3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2"/>
          <p:cNvGrpSpPr/>
          <p:nvPr/>
        </p:nvGrpSpPr>
        <p:grpSpPr>
          <a:xfrm>
            <a:off x="642960" y="2071800"/>
            <a:ext cx="3313080" cy="3527280"/>
            <a:chOff x="642960" y="2071800"/>
            <a:chExt cx="3313080" cy="3527280"/>
          </a:xfrm>
        </p:grpSpPr>
        <p:sp>
          <p:nvSpPr>
            <p:cNvPr id="122" name="Rectangle 3"/>
            <p:cNvSpPr/>
            <p:nvPr/>
          </p:nvSpPr>
          <p:spPr>
            <a:xfrm>
              <a:off x="642960" y="2071800"/>
              <a:ext cx="3313080" cy="3527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"/>
            <p:cNvSpPr/>
            <p:nvPr/>
          </p:nvSpPr>
          <p:spPr>
            <a:xfrm>
              <a:off x="642960" y="3862440"/>
              <a:ext cx="33130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5"/>
            <p:cNvSpPr/>
            <p:nvPr/>
          </p:nvSpPr>
          <p:spPr>
            <a:xfrm>
              <a:off x="2299320" y="2071800"/>
              <a:ext cx="0" cy="352728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6"/>
          <p:cNvGrpSpPr/>
          <p:nvPr/>
        </p:nvGrpSpPr>
        <p:grpSpPr>
          <a:xfrm>
            <a:off x="5000760" y="2000160"/>
            <a:ext cx="3311280" cy="3529080"/>
            <a:chOff x="5000760" y="2000160"/>
            <a:chExt cx="3311280" cy="3529080"/>
          </a:xfrm>
        </p:grpSpPr>
        <p:sp>
          <p:nvSpPr>
            <p:cNvPr id="126" name="Rectangle 7"/>
            <p:cNvSpPr/>
            <p:nvPr/>
          </p:nvSpPr>
          <p:spPr>
            <a:xfrm>
              <a:off x="5000760" y="2000160"/>
              <a:ext cx="3311280" cy="35290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8"/>
            <p:cNvSpPr/>
            <p:nvPr/>
          </p:nvSpPr>
          <p:spPr>
            <a:xfrm>
              <a:off x="5000760" y="3791880"/>
              <a:ext cx="33112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9"/>
            <p:cNvSpPr/>
            <p:nvPr/>
          </p:nvSpPr>
          <p:spPr>
            <a:xfrm>
              <a:off x="6656400" y="2000160"/>
              <a:ext cx="0" cy="352908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10"/>
          <p:cNvSpPr/>
          <p:nvPr/>
        </p:nvSpPr>
        <p:spPr>
          <a:xfrm>
            <a:off x="539640" y="1773360"/>
            <a:ext cx="3816360" cy="3903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洪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5000760" y="1643040"/>
            <a:ext cx="37447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难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1436040" y="42876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左窄右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15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2"/>
          <p:cNvGrpSpPr/>
          <p:nvPr/>
        </p:nvGrpSpPr>
        <p:grpSpPr>
          <a:xfrm>
            <a:off x="755640" y="2187720"/>
            <a:ext cx="3313080" cy="3527280"/>
            <a:chOff x="755640" y="2187720"/>
            <a:chExt cx="3313080" cy="3527280"/>
          </a:xfrm>
        </p:grpSpPr>
        <p:sp>
          <p:nvSpPr>
            <p:cNvPr id="134" name="Rectangle 3"/>
            <p:cNvSpPr/>
            <p:nvPr/>
          </p:nvSpPr>
          <p:spPr>
            <a:xfrm>
              <a:off x="755640" y="2187720"/>
              <a:ext cx="3313080" cy="3527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4"/>
            <p:cNvSpPr/>
            <p:nvPr/>
          </p:nvSpPr>
          <p:spPr>
            <a:xfrm>
              <a:off x="755640" y="3978360"/>
              <a:ext cx="33130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5"/>
            <p:cNvSpPr/>
            <p:nvPr/>
          </p:nvSpPr>
          <p:spPr>
            <a:xfrm>
              <a:off x="2412000" y="2187720"/>
              <a:ext cx="0" cy="352728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6"/>
          <p:cNvGrpSpPr/>
          <p:nvPr/>
        </p:nvGrpSpPr>
        <p:grpSpPr>
          <a:xfrm>
            <a:off x="5072040" y="2214720"/>
            <a:ext cx="3311640" cy="3528720"/>
            <a:chOff x="5072040" y="2214720"/>
            <a:chExt cx="3311640" cy="3528720"/>
          </a:xfrm>
        </p:grpSpPr>
        <p:sp>
          <p:nvSpPr>
            <p:cNvPr id="138" name="Rectangle 7"/>
            <p:cNvSpPr/>
            <p:nvPr/>
          </p:nvSpPr>
          <p:spPr>
            <a:xfrm>
              <a:off x="5072040" y="2214720"/>
              <a:ext cx="3311640" cy="35287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8"/>
            <p:cNvSpPr/>
            <p:nvPr/>
          </p:nvSpPr>
          <p:spPr>
            <a:xfrm>
              <a:off x="5072040" y="4006080"/>
              <a:ext cx="331164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9"/>
            <p:cNvSpPr/>
            <p:nvPr/>
          </p:nvSpPr>
          <p:spPr>
            <a:xfrm>
              <a:off x="6727680" y="2214720"/>
              <a:ext cx="0" cy="352872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10"/>
          <p:cNvSpPr/>
          <p:nvPr/>
        </p:nvSpPr>
        <p:spPr>
          <a:xfrm>
            <a:off x="755640" y="1741320"/>
            <a:ext cx="3816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被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5143680" y="1928880"/>
            <a:ext cx="37447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认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1"/>
          <p:cNvSpPr/>
          <p:nvPr/>
        </p:nvSpPr>
        <p:spPr>
          <a:xfrm>
            <a:off x="1610640" y="2928960"/>
            <a:ext cx="1400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0" spc="-1" strike="noStrike">
                <a:solidFill>
                  <a:srgbClr val="ff0000"/>
                </a:solidFill>
                <a:latin typeface="楷体"/>
                <a:ea typeface="楷体"/>
              </a:rPr>
              <a:t>丿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2"/>
          <p:cNvSpPr/>
          <p:nvPr/>
        </p:nvSpPr>
        <p:spPr>
          <a:xfrm>
            <a:off x="5865120" y="2000160"/>
            <a:ext cx="2009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0" spc="-1" strike="noStrike">
                <a:solidFill>
                  <a:srgbClr val="ff0000"/>
                </a:solidFill>
                <a:latin typeface="楷体"/>
                <a:ea typeface="楷体"/>
              </a:rPr>
              <a:t>丿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4"/>
          <p:cNvSpPr/>
          <p:nvPr/>
        </p:nvSpPr>
        <p:spPr>
          <a:xfrm>
            <a:off x="4450680" y="58752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主动避让有礼貌，巧妙穿插很友好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7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2"/>
          <p:cNvGrpSpPr/>
          <p:nvPr/>
        </p:nvGrpSpPr>
        <p:grpSpPr>
          <a:xfrm>
            <a:off x="785880" y="2214720"/>
            <a:ext cx="3313080" cy="3527280"/>
            <a:chOff x="785880" y="2214720"/>
            <a:chExt cx="3313080" cy="3527280"/>
          </a:xfrm>
        </p:grpSpPr>
        <p:sp>
          <p:nvSpPr>
            <p:cNvPr id="148" name="Rectangle 3"/>
            <p:cNvSpPr/>
            <p:nvPr/>
          </p:nvSpPr>
          <p:spPr>
            <a:xfrm>
              <a:off x="785880" y="2214720"/>
              <a:ext cx="3313080" cy="3527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4"/>
            <p:cNvSpPr/>
            <p:nvPr/>
          </p:nvSpPr>
          <p:spPr>
            <a:xfrm>
              <a:off x="785880" y="4005360"/>
              <a:ext cx="33130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"/>
            <p:cNvSpPr/>
            <p:nvPr/>
          </p:nvSpPr>
          <p:spPr>
            <a:xfrm>
              <a:off x="2442240" y="2214720"/>
              <a:ext cx="0" cy="352728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6"/>
          <p:cNvGrpSpPr/>
          <p:nvPr/>
        </p:nvGrpSpPr>
        <p:grpSpPr>
          <a:xfrm>
            <a:off x="5143680" y="2286000"/>
            <a:ext cx="3311280" cy="3529080"/>
            <a:chOff x="5143680" y="2286000"/>
            <a:chExt cx="3311280" cy="3529080"/>
          </a:xfrm>
        </p:grpSpPr>
        <p:sp>
          <p:nvSpPr>
            <p:cNvPr id="152" name="Rectangle 7"/>
            <p:cNvSpPr/>
            <p:nvPr/>
          </p:nvSpPr>
          <p:spPr>
            <a:xfrm>
              <a:off x="5143680" y="2286000"/>
              <a:ext cx="3311280" cy="35290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8"/>
            <p:cNvSpPr/>
            <p:nvPr/>
          </p:nvSpPr>
          <p:spPr>
            <a:xfrm>
              <a:off x="5143680" y="4077720"/>
              <a:ext cx="33112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9"/>
            <p:cNvSpPr/>
            <p:nvPr/>
          </p:nvSpPr>
          <p:spPr>
            <a:xfrm>
              <a:off x="6799320" y="2286000"/>
              <a:ext cx="0" cy="352908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10"/>
          <p:cNvSpPr/>
          <p:nvPr/>
        </p:nvSpPr>
        <p:spPr>
          <a:xfrm>
            <a:off x="684360" y="1785960"/>
            <a:ext cx="3816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产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5072040" y="2098800"/>
            <a:ext cx="37450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业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1"/>
          <p:cNvSpPr/>
          <p:nvPr/>
        </p:nvSpPr>
        <p:spPr>
          <a:xfrm>
            <a:off x="714240" y="500040"/>
            <a:ext cx="4000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找主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5160240" y="3071880"/>
            <a:ext cx="3228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0" spc="-1" strike="noStrike">
                <a:solidFill>
                  <a:srgbClr val="ff0000"/>
                </a:solidFill>
                <a:latin typeface="楷体"/>
                <a:ea typeface="楷体"/>
              </a:rPr>
              <a:t>一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1"/>
          <p:cNvSpPr/>
          <p:nvPr/>
        </p:nvSpPr>
        <p:spPr>
          <a:xfrm rot="376800">
            <a:off x="835200" y="3260520"/>
            <a:ext cx="1400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0" spc="-1" strike="noStrike">
                <a:solidFill>
                  <a:srgbClr val="ff0000"/>
                </a:solidFill>
                <a:latin typeface="楷体"/>
                <a:ea typeface="楷体"/>
              </a:rPr>
              <a:t>丿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8" descr="0N_)R`RQXD[}`MSVS4%0]2O.jpg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"/>
          <p:cNvGrpSpPr/>
          <p:nvPr/>
        </p:nvGrpSpPr>
        <p:grpSpPr>
          <a:xfrm>
            <a:off x="2786040" y="1071720"/>
            <a:ext cx="3313080" cy="3527280"/>
            <a:chOff x="2786040" y="1071720"/>
            <a:chExt cx="3313080" cy="3527280"/>
          </a:xfrm>
        </p:grpSpPr>
        <p:sp>
          <p:nvSpPr>
            <p:cNvPr id="162" name="Rectangle 3"/>
            <p:cNvSpPr/>
            <p:nvPr/>
          </p:nvSpPr>
          <p:spPr>
            <a:xfrm>
              <a:off x="2786040" y="1071720"/>
              <a:ext cx="3313080" cy="35272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4"/>
            <p:cNvSpPr/>
            <p:nvPr/>
          </p:nvSpPr>
          <p:spPr>
            <a:xfrm>
              <a:off x="2786040" y="2862360"/>
              <a:ext cx="33130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5"/>
            <p:cNvSpPr/>
            <p:nvPr/>
          </p:nvSpPr>
          <p:spPr>
            <a:xfrm>
              <a:off x="4442400" y="1071720"/>
              <a:ext cx="0" cy="352728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 Box 10"/>
          <p:cNvSpPr/>
          <p:nvPr/>
        </p:nvSpPr>
        <p:spPr>
          <a:xfrm>
            <a:off x="2928960" y="714240"/>
            <a:ext cx="37861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道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9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7" name="Group 2"/>
          <p:cNvGrpSpPr/>
          <p:nvPr/>
        </p:nvGrpSpPr>
        <p:grpSpPr>
          <a:xfrm>
            <a:off x="3000240" y="1214280"/>
            <a:ext cx="3313080" cy="3527640"/>
            <a:chOff x="3000240" y="1214280"/>
            <a:chExt cx="3313080" cy="3527640"/>
          </a:xfrm>
        </p:grpSpPr>
        <p:sp>
          <p:nvSpPr>
            <p:cNvPr id="168" name="Rectangle 3"/>
            <p:cNvSpPr/>
            <p:nvPr/>
          </p:nvSpPr>
          <p:spPr>
            <a:xfrm>
              <a:off x="3000240" y="1214280"/>
              <a:ext cx="3313080" cy="3527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4"/>
            <p:cNvSpPr/>
            <p:nvPr/>
          </p:nvSpPr>
          <p:spPr>
            <a:xfrm>
              <a:off x="3000240" y="3005280"/>
              <a:ext cx="3313080" cy="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5"/>
            <p:cNvSpPr/>
            <p:nvPr/>
          </p:nvSpPr>
          <p:spPr>
            <a:xfrm>
              <a:off x="4656600" y="1214280"/>
              <a:ext cx="0" cy="3527640"/>
            </a:xfrm>
            <a:prstGeom prst="line">
              <a:avLst/>
            </a:prstGeom>
            <a:ln w="38160">
              <a:solidFill>
                <a:srgbClr val="ff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 Box 10"/>
          <p:cNvSpPr/>
          <p:nvPr/>
        </p:nvSpPr>
        <p:spPr>
          <a:xfrm>
            <a:off x="3112920" y="714240"/>
            <a:ext cx="38163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楷体"/>
                <a:ea typeface="楷体"/>
              </a:rPr>
              <a:t>灾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图片 4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3"/>
          <p:cNvSpPr/>
          <p:nvPr/>
        </p:nvSpPr>
        <p:spPr>
          <a:xfrm>
            <a:off x="357120" y="210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拓展阅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"/>
          <p:cNvSpPr/>
          <p:nvPr/>
        </p:nvSpPr>
        <p:spPr>
          <a:xfrm>
            <a:off x="642960" y="1000080"/>
            <a:ext cx="7786800" cy="2265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大禹治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很久很久以前，滔滔的洪水淹没了农田，冲倒了房屋，害得老百姓无家可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禹下决心要治理洪水。他吃尽了千辛万苦，走遍了千山万水，仔细地察看水流和地形。他带领老百姓挖通了九条大河，劈开了九座大山，引导洪水流入了大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禹在外治水</a:t>
            </a:r>
            <a:r>
              <a:rPr b="0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13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年，曾经三次路过自己的家门，但他一次也没有进去看一看，禹的儿子十多岁了，还不知道父亲是个什么样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洪水被制服了，老百姓过上了安定的日子，大家非常感激这位治水的伟大英雄。从此，大禹的名字代代相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3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44784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全国小学语文名师工作室联盟费洁工作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陆宇慧</a:t>
            </a:r>
            <a:r>
              <a:rPr b="1" lang="en-US" sz="44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开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2017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年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月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9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8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928800" y="3071880"/>
            <a:ext cx="600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642960" y="1571760"/>
            <a:ext cx="442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洪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1528920" y="157176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4304880" y="157176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泛滥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1654560" y="857160"/>
            <a:ext cx="15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ó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3052440" y="4000680"/>
            <a:ext cx="172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海、流、治、淹、没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7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3139920" y="230508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1571760" y="1000080"/>
            <a:ext cx="6072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形标注 4"/>
          <p:cNvSpPr/>
          <p:nvPr/>
        </p:nvSpPr>
        <p:spPr>
          <a:xfrm>
            <a:off x="3643200" y="428760"/>
            <a:ext cx="4643640" cy="20714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"/>
                <a:ea typeface="楷体"/>
              </a:rPr>
              <a:t>联系下文，我知道“泛滥”的意思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285840" y="3200400"/>
            <a:ext cx="850104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大水淹没了田地，冲毁了房屋，毒蛇猛兽到处伤害百姓和牲畜，人们的生活痛苦极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A:\滔滔洪水图3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5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3139920" y="230508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1285920" y="1000080"/>
            <a:ext cx="6286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毒蛇</a:t>
            </a: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猛</a:t>
            </a: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兽</a:t>
            </a: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无数</a:t>
            </a: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灾</a:t>
            </a: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2688480" y="3929040"/>
            <a:ext cx="365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水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火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自然灾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3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"/>
          <p:cNvSpPr/>
          <p:nvPr/>
        </p:nvSpPr>
        <p:spPr>
          <a:xfrm>
            <a:off x="142920" y="1357200"/>
            <a:ext cx="8715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大水淹没了田地，冲毁了房屋，毒蛇猛兽到处伤害百姓和牲畜，人们的</a:t>
            </a:r>
            <a:r>
              <a:rPr b="0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生活痛苦极了</a:t>
            </a: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4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3139920" y="230508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214200" y="1500120"/>
            <a:ext cx="8501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只知道筑坝挡水  </a:t>
            </a: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仍</a:t>
            </a: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然没有消</a:t>
            </a:r>
            <a:r>
              <a:rPr b="0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退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6" descr="0N_)R`RQXD[}`MSVS4%0]2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2214720" y="1714680"/>
            <a:ext cx="600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214200" y="1808280"/>
            <a:ext cx="8501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挡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3"/>
          <p:cNvSpPr/>
          <p:nvPr/>
        </p:nvSpPr>
        <p:spPr>
          <a:xfrm>
            <a:off x="3357720" y="2357280"/>
            <a:ext cx="142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楷体"/>
                <a:ea typeface="楷体"/>
              </a:rPr>
              <a:t>﹒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3388680" y="3500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（阻挡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4T14:55:38Z</dcterms:created>
  <dc:creator>Administrator</dc:creator>
  <dc:description/>
  <dc:language>en-US</dc:language>
  <cp:lastModifiedBy>_</cp:lastModifiedBy>
  <dcterms:modified xsi:type="dcterms:W3CDTF">2017-08-22T05:47:43Z</dcterms:modified>
  <cp:revision>15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