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1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BUTTON.WAV" ContentType="audio/x-wav"/>
  <Override PartName="/ppt/media/image5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E1C-FDC6-4C19-8A80-2A5C1799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7B1-3A25-4B47-B7C4-2E72877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06A-6DB4-456B-B761-5E7F36A1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946-53D8-4640-BA68-2DFC8424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8536-0653-4668-BD6A-0314AD6D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063F-3195-4B3E-BAE3-48FA39F2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D5C-5C1D-487A-A1BC-5A325E5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A4B2-5F45-4085-BB6D-9CD927F3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0F4-FE45-4274-B127-EDF82A63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EFE-F349-4B05-B89A-7B1DC50A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660C-253C-4ACB-B637-65D3B28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DCF-055C-4A9C-8C13-832D9B66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4751-D64E-43CA-911F-6111E0E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CD4-45CE-439E-B604-3C9F77C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F778-A748-43E0-98DF-58546D8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0D70-D8FC-4528-8449-C052E351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744D-7604-439E-9547-DD988466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E4BA-5C18-4D5F-9564-0CF5FC0D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28E9-B32D-4EB8-A412-90F9EEC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AE43-1E17-42C9-AB84-4619D400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6B55-D388-4E37-A74F-230E4758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4CB5-0EE1-4496-BD3E-85FA0A20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6A6-E401-4E9D-954B-C8254C39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5903-4943-4B8C-9C40-0EFE7288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D07E-3C29-4344-9C1C-A13BA0C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C702-F576-4EC1-A919-972E410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23D4-6C83-4902-BD24-FCE3DD8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F82A-0AD0-4EB0-8BFB-44E490E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46D6-3322-463A-8980-89890E8C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E7BF-CB18-45A5-A280-14DB5967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3520-3E2B-4441-8503-FE7FE890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44C2-67F8-4D2B-BCDF-700F22FD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AC67-4D26-410B-AFC0-58C6CED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B1E-00E1-4470-8D89-22C08398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C466-95D8-4119-BF96-6D081E11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BAD4-30E6-47F9-9306-37930E1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FBD4-9053-43C1-A707-93A46E5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AE69-528F-4E59-8DCB-E32142B9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8EA1-27EF-4B6D-9DC4-D7B2ABA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9761-C2B5-4909-97BC-71AEE01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F210-53CC-4F67-BB26-FA46CFC9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AFE8-F924-438D-AB8B-0330BCA0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B91A-A191-4807-B28C-3FB8D9B1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39C-1B96-40D3-A916-572D6DB1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DB9-8794-4EE9-BEE2-BE9C882F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343-8A53-4AEF-8596-B9211B9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6C9-0FDE-4101-BEBE-80633168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F59-6901-4015-A822-EC101FE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B7B-51CD-451A-BFCC-B85DB40BC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6050-DF67-40F5-B778-1A6CBA887F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98F-76CB-4FA5-BDBE-F7AB1D2C71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311-6E3F-4A26-994F-C601D20489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121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122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5123"/>
          <p:cNvSpPr/>
          <p:nvPr/>
        </p:nvSpPr>
        <p:spPr>
          <a:xfrm>
            <a:off x="309600" y="49370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25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6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往狐狸身后一看，哇，一只大老虎！大大小小的野兽吓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撒腿就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6982920" y="330516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快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命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劲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1292400" y="501480"/>
            <a:ext cx="37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百兽们怕的谁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猾的狐狸是怎么借到老虎的威风的？你从那句话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到百兽面前走一趟，让你看看我的威风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1198440" y="51444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为什么不说我跟你到百兽前面走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4857840" y="51444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谁来当一只神气活现的的狐狸，读好狐狸说的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2133720" y="3794040"/>
            <a:ext cx="527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神气活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我带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百兽面前走一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看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威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"/>
          <p:cNvSpPr/>
          <p:nvPr/>
        </p:nvSpPr>
        <p:spPr>
          <a:xfrm>
            <a:off x="2324160" y="529920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狐狸还说了哪些话，让你觉得它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骨碌碌一转，扯着嗓子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2627280" y="44449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个词让你觉得狐狸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骨碌碌一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扯着嗓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399744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674856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派我来管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2289240" y="131436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狐狸会怎么对老虎说这句话？谁来演一演，演出狐狸的神气活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1355760" y="4932360"/>
            <a:ext cx="56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派遣  派兵  派人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1297080" y="2432160"/>
            <a:ext cx="29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摇头摆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297080" y="172404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266760" y="36021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700200" y="2432160"/>
            <a:ext cx="70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狐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说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1297080" y="103356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趾高气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297080" y="32688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颐指气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2235240" y="5773680"/>
            <a:ext cx="54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听到狐狸说的话，老虎的反应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"/>
          <p:cNvSpPr/>
          <p:nvPr/>
        </p:nvSpPr>
        <p:spPr>
          <a:xfrm>
            <a:off x="2978280" y="773280"/>
            <a:ext cx="33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半信半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795240" y="2751120"/>
            <a:ext cx="79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虎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蒙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住了，松开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5857920" y="3605040"/>
            <a:ext cx="16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927080" y="3605040"/>
            <a:ext cx="243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愣住了、     纳闷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7"/>
          <p:cNvSpPr/>
          <p:nvPr/>
        </p:nvSpPr>
        <p:spPr>
          <a:xfrm>
            <a:off x="1832040" y="502920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老虎会怎么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"/>
          <p:cNvSpPr/>
          <p:nvPr/>
        </p:nvSpPr>
        <p:spPr>
          <a:xfrm>
            <a:off x="1832040" y="219564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，文中还有那些词表示这个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"/>
          <p:cNvSpPr/>
          <p:nvPr/>
        </p:nvSpPr>
        <p:spPr>
          <a:xfrm>
            <a:off x="2003400" y="85392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虎跟着狐狸朝森林深处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"/>
          <p:cNvSpPr/>
          <p:nvPr/>
        </p:nvSpPr>
        <p:spPr>
          <a:xfrm>
            <a:off x="1778040" y="2682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6000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4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4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5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5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2206080" y="2365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6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7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7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8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物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8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2196000" y="236520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9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09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09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09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00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狡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0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0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1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眼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1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2130840" y="236520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2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3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3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4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4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2267640" y="236520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5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6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6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7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7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u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4417560" y="256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574320" y="25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8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9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9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0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神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0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神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1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2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2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3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3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1994400" y="23652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4141800" y="2505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点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4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56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57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59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65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021040" y="23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75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2"/>
          <p:cNvSpPr/>
          <p:nvPr/>
        </p:nvSpPr>
        <p:spPr>
          <a:xfrm>
            <a:off x="2598840" y="230832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11265"/>
          <p:cNvSpPr/>
          <p:nvPr/>
        </p:nvSpPr>
        <p:spPr>
          <a:xfrm>
            <a:off x="539640" y="663480"/>
            <a:ext cx="7856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违抗  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纳闷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骗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1"/>
          <p:cNvSpPr/>
          <p:nvPr/>
        </p:nvSpPr>
        <p:spPr>
          <a:xfrm>
            <a:off x="2341440" y="80028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分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"/>
          <p:cNvSpPr/>
          <p:nvPr/>
        </p:nvSpPr>
        <p:spPr>
          <a:xfrm>
            <a:off x="17780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6"/>
          <p:cNvSpPr/>
          <p:nvPr/>
        </p:nvSpPr>
        <p:spPr>
          <a:xfrm>
            <a:off x="5919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"/>
          <p:cNvSpPr/>
          <p:nvPr/>
        </p:nvSpPr>
        <p:spPr>
          <a:xfrm>
            <a:off x="1778040" y="42544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1"/>
          <p:cNvSpPr/>
          <p:nvPr/>
        </p:nvSpPr>
        <p:spPr>
          <a:xfrm>
            <a:off x="2003400" y="117936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"/>
          <p:cNvSpPr/>
          <p:nvPr/>
        </p:nvSpPr>
        <p:spPr>
          <a:xfrm>
            <a:off x="138420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3755880" y="3137040"/>
            <a:ext cx="18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5"/>
          <p:cNvSpPr/>
          <p:nvPr/>
        </p:nvSpPr>
        <p:spPr>
          <a:xfrm>
            <a:off x="591984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6"/>
          <p:cNvSpPr/>
          <p:nvPr/>
        </p:nvSpPr>
        <p:spPr>
          <a:xfrm>
            <a:off x="890640" y="31370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362736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8"/>
          <p:cNvSpPr/>
          <p:nvPr/>
        </p:nvSpPr>
        <p:spPr>
          <a:xfrm>
            <a:off x="2003400" y="418788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词语讲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8193" descr="Image00000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601956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94"/>
          <p:cNvSpPr txBox="1"/>
          <p:nvPr/>
        </p:nvSpPr>
        <p:spPr>
          <a:xfrm>
            <a:off x="2136600" y="906480"/>
            <a:ext cx="43624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黑体"/>
              </a:rPr>
              <a:t>狐假虎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图片 8198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1111320" y="162864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狐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4098" descr="XC408012"/>
          <p:cNvPicPr/>
          <p:nvPr/>
        </p:nvPicPr>
        <p:blipFill>
          <a:blip r:embed="rId1"/>
          <a:stretch/>
        </p:blipFill>
        <p:spPr>
          <a:xfrm>
            <a:off x="2862360" y="3090960"/>
            <a:ext cx="4038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2"/>
          <p:cNvSpPr/>
          <p:nvPr/>
        </p:nvSpPr>
        <p:spPr>
          <a:xfrm>
            <a:off x="1795320" y="430200"/>
            <a:ext cx="57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老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5121" descr="XC408010"/>
          <p:cNvPicPr/>
          <p:nvPr/>
        </p:nvPicPr>
        <p:blipFill>
          <a:blip r:embed="rId1"/>
          <a:stretch/>
        </p:blipFill>
        <p:spPr>
          <a:xfrm>
            <a:off x="2319480" y="1746360"/>
            <a:ext cx="47242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"/>
          <p:cNvSpPr/>
          <p:nvPr/>
        </p:nvSpPr>
        <p:spPr>
          <a:xfrm>
            <a:off x="6480" y="2898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刺那些借着别人的威风欺负弱小的坏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"/>
          <p:cNvSpPr/>
          <p:nvPr/>
        </p:nvSpPr>
        <p:spPr>
          <a:xfrm>
            <a:off x="1990800" y="1162080"/>
            <a:ext cx="40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狐假虎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"/>
          <p:cNvSpPr/>
          <p:nvPr/>
        </p:nvSpPr>
        <p:spPr>
          <a:xfrm>
            <a:off x="2139840" y="4197240"/>
            <a:ext cx="60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以致用，造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2"/>
          <p:cNvSpPr/>
          <p:nvPr/>
        </p:nvSpPr>
        <p:spPr>
          <a:xfrm>
            <a:off x="266760" y="154152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小被日本鬼子抓住了。一个日本军官问他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孩，你的什么的干活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汉奸连忙狐假虎威地跟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军问你干什么的，快说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二小瞪了汉奸一眼，不慌不忙地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牛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22529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504" name="图片 22530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图片 22531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22532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图片 22533" descr="狐假虎威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614680" y="2481120"/>
            <a:ext cx="4268880" cy="29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8" name="矩形 22534"/>
          <p:cNvSpPr txBox="1"/>
          <p:nvPr/>
        </p:nvSpPr>
        <p:spPr>
          <a:xfrm>
            <a:off x="2309760" y="98280"/>
            <a:ext cx="50580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我是小演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9" name="图片 22536" descr="官方logo副本"/>
          <p:cNvPicPr/>
          <p:nvPr/>
        </p:nvPicPr>
        <p:blipFill>
          <a:blip r:embed="rId5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"/>
          <p:cNvSpPr/>
          <p:nvPr/>
        </p:nvSpPr>
        <p:spPr>
          <a:xfrm>
            <a:off x="1052640" y="98892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了这个故事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"/>
          <p:cNvSpPr/>
          <p:nvPr/>
        </p:nvSpPr>
        <p:spPr>
          <a:xfrm>
            <a:off x="1052640" y="252108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信别人的话，也不要随便欺骗别人，更不要借着别人的威风欺负弱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波形 46081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波形 46082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波形 46083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投鼠忌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波形 46084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波形 46085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波形 46086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波形 46087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蛇添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波形 46088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兔三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波形 46089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龙点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波形 46091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波形 46092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波形 46093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波形 46094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波形 46095"/>
          <p:cNvSpPr/>
          <p:nvPr/>
        </p:nvSpPr>
        <p:spPr>
          <a:xfrm>
            <a:off x="3240" y="3186000"/>
            <a:ext cx="3200400" cy="117972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塞翁失马，焉知非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波形 46096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波形 46097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波形 46098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鸡儆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波形 46099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人成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波形 46100"/>
          <p:cNvSpPr/>
          <p:nvPr/>
        </p:nvSpPr>
        <p:spPr>
          <a:xfrm>
            <a:off x="457200" y="4800600"/>
            <a:ext cx="2290680" cy="1181160"/>
          </a:xfrm>
          <a:custGeom>
            <a:avLst/>
            <a:gdLst>
              <a:gd name="textAreaLeft" fmla="*/ 0 w 2290680"/>
              <a:gd name="textAreaRight" fmla="*/ 2291040 w 2290680"/>
              <a:gd name="textAreaTop" fmla="*/ 307080 h 1181160"/>
              <a:gd name="textAreaBottom" fmla="*/ 87408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闻鸡起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波形 46101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波形 46102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鸣狗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波形 46103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牛弹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6104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535" name="波形 46105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46106"/>
            <p:cNvSpPr/>
            <p:nvPr/>
          </p:nvSpPr>
          <p:spPr>
            <a:xfrm>
              <a:off x="7034760" y="506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同猪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47105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538" name="矩形 47106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39" name="图片 47107" descr="官方logo副本"/>
          <p:cNvPicPr/>
          <p:nvPr/>
        </p:nvPicPr>
        <p:blipFill>
          <a:blip r:embed="rId2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1265"/>
          <p:cNvSpPr/>
          <p:nvPr/>
        </p:nvSpPr>
        <p:spPr>
          <a:xfrm>
            <a:off x="582480" y="99540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1265"/>
          <p:cNvSpPr/>
          <p:nvPr/>
        </p:nvSpPr>
        <p:spPr>
          <a:xfrm>
            <a:off x="2268360" y="652320"/>
            <a:ext cx="430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纳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2057400" y="228744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2161440" y="46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3076560" y="19526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圈   转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3076560" y="2658960"/>
            <a:ext cx="59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身   转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174840" y="428616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ē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热  油焖大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174840" y="49928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郁闷  闷闷不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7"/>
          <p:cNvSpPr/>
          <p:nvPr/>
        </p:nvSpPr>
        <p:spPr>
          <a:xfrm>
            <a:off x="1444680" y="1954080"/>
            <a:ext cx="625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碌  走一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708120" y="806400"/>
            <a:ext cx="772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   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1444680" y="3152880"/>
            <a:ext cx="5610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4341"/>
          <p:cNvSpPr/>
          <p:nvPr/>
        </p:nvSpPr>
        <p:spPr>
          <a:xfrm>
            <a:off x="444600" y="581040"/>
            <a:ext cx="84582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假虎威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那句话告诉了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343" descr="离开"/>
          <p:cNvPicPr/>
          <p:nvPr/>
        </p:nvPicPr>
        <p:blipFill>
          <a:blip r:embed="rId1"/>
          <a:stretch/>
        </p:blipFill>
        <p:spPr>
          <a:xfrm>
            <a:off x="398520" y="6224760"/>
            <a:ext cx="990720" cy="50292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1"/>
          <p:cNvSpPr/>
          <p:nvPr/>
        </p:nvSpPr>
        <p:spPr>
          <a:xfrm>
            <a:off x="398520" y="261936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狐狸是借着老虎的威风把百兽吓跑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533520" y="360828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533520" y="4473720"/>
            <a:ext cx="84582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狐狸借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吓跑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W1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6385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194" name="图片 16386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6387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16388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文本框 16391"/>
          <p:cNvSpPr/>
          <p:nvPr/>
        </p:nvSpPr>
        <p:spPr>
          <a:xfrm>
            <a:off x="1355760" y="18669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　　你觉得老虎厉害还是狐狸厉害？从哪句话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6392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393" descr="赶回"/>
          <p:cNvPicPr/>
          <p:nvPr/>
        </p:nvPicPr>
        <p:blipFill>
          <a:blip r:embed="rId5"/>
          <a:stretch/>
        </p:blipFill>
        <p:spPr>
          <a:xfrm>
            <a:off x="7620120" y="5334120"/>
            <a:ext cx="114768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7411"/>
          <p:cNvSpPr/>
          <p:nvPr/>
        </p:nvSpPr>
        <p:spPr>
          <a:xfrm>
            <a:off x="228600" y="196524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茂密的森林里，有只老虎正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食物。只狐狸从老虎身边窜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虎扑过去，把狐狸逮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412"/>
          <p:cNvSpPr/>
          <p:nvPr/>
        </p:nvSpPr>
        <p:spPr>
          <a:xfrm>
            <a:off x="6909480" y="2879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413"/>
          <p:cNvSpPr/>
          <p:nvPr/>
        </p:nvSpPr>
        <p:spPr>
          <a:xfrm>
            <a:off x="1550160" y="3795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扑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414"/>
          <p:cNvSpPr/>
          <p:nvPr/>
        </p:nvSpPr>
        <p:spPr>
          <a:xfrm>
            <a:off x="4992840" y="37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逮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21:10Z</dcterms:created>
  <dc:creator/>
  <dc:description/>
  <dc:language>en-US</dc:language>
  <cp:lastModifiedBy>noodee</cp:lastModifiedBy>
  <dcterms:modified xsi:type="dcterms:W3CDTF">2018-12-09T15:22:5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002</vt:lpwstr>
  </property>
  <property fmtid="{D5CDD505-2E9C-101B-9397-08002B2CF9AE}" pid="3" name="Version">
    <vt:r8>1</vt:r8>
  </property>
</Properties>
</file>