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11.jpeg" ContentType="image/jpeg"/>
  <Override PartName="/ppt/media/image40.png" ContentType="image/png"/>
  <Override PartName="/ppt/media/image13.png" ContentType="image/png"/>
  <Override PartName="/ppt/media/image37.png" ContentType="image/png"/>
  <Override PartName="/ppt/media/image44.png" ContentType="image/png"/>
  <Override PartName="/ppt/media/image45.wmf" ContentType="image/x-wmf"/>
  <Override PartName="/ppt/media/image46.jpeg" ContentType="image/jpeg"/>
  <Override PartName="/ppt/media/image43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28.gif" ContentType="image/gif"/>
  <Override PartName="/ppt/media/image7.jpeg" ContentType="image/jpeg"/>
  <Override PartName="/ppt/media/image18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chimes.wav" ContentType="audio/x-wav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449-796A-42D3-B915-E551BB4A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3A8-4C52-48F5-A9CD-0F8F62B5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4DB-7DEF-4CB5-AE7F-0A673ACC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4365-4F9F-434D-A474-641601A5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3D49-A033-45B3-AFF8-8BC0C863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25C0-4F05-4897-AB5F-9A9FF2BF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A2C6-FFB3-4F35-8AA5-24DD8660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6C6A-021E-448B-86B8-4BA3AB28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A74F-92DF-4B45-8588-9F057884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8FC6-64E0-4F01-813A-5F718E51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37CC-81D9-4BB5-A39A-EC3768BB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042-37E0-496B-B43F-83CC432F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A83B-D4B2-40A5-BB18-BE4406EB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5E74-3CEC-428E-90A0-902C4D3B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9026-0A6B-43F2-B76E-D8687734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9F7B-DF0C-486C-91C0-711CF2B9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28E5-07A0-4B89-AB7C-4E62A947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864D3-4C08-44B4-8B12-97B18477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154BC-439A-4877-994B-72080963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77B9E-980C-470B-AFC0-07361AEF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3346A-38D6-4375-A17D-FB37A9EE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44B8C-2889-46BE-B643-BB6D452C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18E-3D0C-44E0-918C-09748A14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D1516-F131-47A2-8EFC-BB231505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344B5-3BE8-4856-B0AA-D93522B5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1B66F-C08A-4F6C-BEC4-CA8E51AD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A651E-52BB-4ABB-9F5A-564FBA6C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A869-018A-4BA8-A74D-AC02B7F3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A1DEE-66B7-443B-AFEF-729C95D0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34D9F-27F4-4396-97D3-AEBF62E9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D315-D724-4BAB-A250-60B76C28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D19-0922-4B80-87C7-575659B2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BEF-2E60-4BA7-AAA9-CE4F88AB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0B8-A172-4EB7-B27B-E128E11D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BE6-E494-4E27-B536-6F9317E9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790-0ADF-4FA9-BAAB-0D289087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7D5B-93D0-45C1-B1A6-89134F0256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305E-61C2-4AEA-8619-CECD479FBB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72AF-AE32-45CD-A2BE-BF8BCE7EAB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6716880"/>
            <a:ext cx="9142560" cy="139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C:\Documents and Settings\Administrator\桌面\图片1.png"/>
          <p:cNvPicPr/>
          <p:nvPr/>
        </p:nvPicPr>
        <p:blipFill>
          <a:blip r:embed="rId3"/>
          <a:stretch/>
        </p:blipFill>
        <p:spPr>
          <a:xfrm>
            <a:off x="0" y="648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34.png"/><Relationship Id="rId9" Type="http://schemas.openxmlformats.org/officeDocument/2006/relationships/image" Target="../media/image31.png"/><Relationship Id="rId10" Type="http://schemas.openxmlformats.org/officeDocument/2006/relationships/image" Target="../media/image33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951440" y="1046160"/>
            <a:ext cx="32256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松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3" descr="图片2"/>
          <p:cNvPicPr/>
          <p:nvPr/>
        </p:nvPicPr>
        <p:blipFill>
          <a:blip r:embed="rId1"/>
          <a:stretch/>
        </p:blipFill>
        <p:spPr>
          <a:xfrm>
            <a:off x="5210280" y="1407960"/>
            <a:ext cx="3247920" cy="31975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4" descr="图片1"/>
          <p:cNvPicPr/>
          <p:nvPr/>
        </p:nvPicPr>
        <p:blipFill>
          <a:blip r:embed="rId2"/>
          <a:stretch/>
        </p:blipFill>
        <p:spPr>
          <a:xfrm>
            <a:off x="685800" y="2622600"/>
            <a:ext cx="2463840" cy="3556080"/>
          </a:xfrm>
          <a:prstGeom prst="rect">
            <a:avLst/>
          </a:prstGeom>
          <a:ln w="0">
            <a:noFill/>
          </a:ln>
        </p:spPr>
      </p:pic>
      <p:sp>
        <p:nvSpPr>
          <p:cNvPr id="200" name="副标题 2"/>
          <p:cNvSpPr/>
          <p:nvPr/>
        </p:nvSpPr>
        <p:spPr>
          <a:xfrm>
            <a:off x="-209520" y="1616040"/>
            <a:ext cx="32256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6" descr="图片4"/>
          <p:cNvPicPr/>
          <p:nvPr/>
        </p:nvPicPr>
        <p:blipFill>
          <a:blip r:embed="rId3"/>
          <a:stretch/>
        </p:blipFill>
        <p:spPr>
          <a:xfrm>
            <a:off x="7362720" y="4116240"/>
            <a:ext cx="1981440" cy="146556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7" descr="图片3"/>
          <p:cNvPicPr/>
          <p:nvPr/>
        </p:nvPicPr>
        <p:blipFill>
          <a:blip r:embed="rId4"/>
          <a:stretch/>
        </p:blipFill>
        <p:spPr>
          <a:xfrm>
            <a:off x="2619360" y="2793960"/>
            <a:ext cx="2332080" cy="2135160"/>
          </a:xfrm>
          <a:prstGeom prst="rect">
            <a:avLst/>
          </a:prstGeom>
          <a:ln w="0">
            <a:noFill/>
          </a:ln>
        </p:spPr>
      </p:pic>
      <p:sp>
        <p:nvSpPr>
          <p:cNvPr id="203" name="副标题 2"/>
          <p:cNvSpPr/>
          <p:nvPr/>
        </p:nvSpPr>
        <p:spPr>
          <a:xfrm>
            <a:off x="6119640" y="5450040"/>
            <a:ext cx="32245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纸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2401920" y="2344680"/>
            <a:ext cx="32256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风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1" descr="577a3318b0ba0.jpg"/>
          <p:cNvPicPr/>
          <p:nvPr/>
        </p:nvPicPr>
        <p:blipFill>
          <a:blip r:embed="rId1"/>
          <a:stretch/>
        </p:blipFill>
        <p:spPr>
          <a:xfrm>
            <a:off x="324000" y="3333600"/>
            <a:ext cx="5040000" cy="255600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2" descr="200721152412734.jpg"/>
          <p:cNvPicPr/>
          <p:nvPr/>
        </p:nvPicPr>
        <p:blipFill>
          <a:blip r:embed="rId2"/>
          <a:stretch/>
        </p:blipFill>
        <p:spPr>
          <a:xfrm>
            <a:off x="324000" y="57240"/>
            <a:ext cx="5101920" cy="2592360"/>
          </a:xfrm>
          <a:prstGeom prst="rect">
            <a:avLst/>
          </a:prstGeom>
          <a:ln w="0">
            <a:noFill/>
          </a:ln>
        </p:spPr>
      </p:pic>
      <p:sp>
        <p:nvSpPr>
          <p:cNvPr id="257" name="矩形 3"/>
          <p:cNvSpPr/>
          <p:nvPr/>
        </p:nvSpPr>
        <p:spPr>
          <a:xfrm>
            <a:off x="-514440" y="264960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熊拿起纸船一看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乐坏了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2189880" y="588960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松鼠一把抓住风筝的线一看，也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乐坏了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"/>
          <p:cNvSpPr/>
          <p:nvPr/>
        </p:nvSpPr>
        <p:spPr>
          <a:xfrm>
            <a:off x="6639480" y="24354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乐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"/>
          <p:cNvSpPr/>
          <p:nvPr/>
        </p:nvSpPr>
        <p:spPr>
          <a:xfrm>
            <a:off x="6901920" y="2997360"/>
            <a:ext cx="182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开心极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高兴极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高兴得不得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1" descr="577a3318b0ba0.jpg"/>
          <p:cNvPicPr/>
          <p:nvPr/>
        </p:nvPicPr>
        <p:blipFill>
          <a:blip r:embed="rId1"/>
          <a:stretch/>
        </p:blipFill>
        <p:spPr>
          <a:xfrm>
            <a:off x="324000" y="3333600"/>
            <a:ext cx="5040000" cy="255600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2" descr="200721152412734.jpg"/>
          <p:cNvPicPr/>
          <p:nvPr/>
        </p:nvPicPr>
        <p:blipFill>
          <a:blip r:embed="rId2"/>
          <a:stretch/>
        </p:blipFill>
        <p:spPr>
          <a:xfrm>
            <a:off x="324000" y="57240"/>
            <a:ext cx="5101920" cy="2592360"/>
          </a:xfrm>
          <a:prstGeom prst="rect">
            <a:avLst/>
          </a:prstGeom>
          <a:ln w="0">
            <a:noFill/>
          </a:ln>
        </p:spPr>
      </p:pic>
      <p:sp>
        <p:nvSpPr>
          <p:cNvPr id="263" name="矩形 3"/>
          <p:cNvSpPr/>
          <p:nvPr/>
        </p:nvSpPr>
        <p:spPr>
          <a:xfrm>
            <a:off x="5541840" y="2125800"/>
            <a:ext cx="31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想象一下他们乐成了什么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组合 5"/>
          <p:cNvGrpSpPr/>
          <p:nvPr/>
        </p:nvGrpSpPr>
        <p:grpSpPr>
          <a:xfrm>
            <a:off x="-28440" y="0"/>
            <a:ext cx="9172440" cy="6858000"/>
            <a:chOff x="-28440" y="0"/>
            <a:chExt cx="9172440" cy="6858000"/>
          </a:xfrm>
        </p:grpSpPr>
        <p:pic>
          <p:nvPicPr>
            <p:cNvPr id="265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28440" y="0"/>
              <a:ext cx="91724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图片 7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083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图片 8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7164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图片 9" descr="200842992417999.jpg"/>
            <p:cNvPicPr/>
            <p:nvPr/>
          </p:nvPicPr>
          <p:blipFill>
            <a:blip r:embed="rId4"/>
            <a:stretch/>
          </p:blipFill>
          <p:spPr>
            <a:xfrm>
              <a:off x="558036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0" descr="200842992417999.jpg"/>
            <p:cNvPicPr/>
            <p:nvPr/>
          </p:nvPicPr>
          <p:blipFill>
            <a:blip r:embed="rId5"/>
            <a:stretch/>
          </p:blipFill>
          <p:spPr>
            <a:xfrm>
              <a:off x="370800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图片 11" descr="200842992417999.jpg"/>
            <p:cNvPicPr/>
            <p:nvPr/>
          </p:nvPicPr>
          <p:blipFill>
            <a:blip r:embed="rId6"/>
            <a:stretch/>
          </p:blipFill>
          <p:spPr>
            <a:xfrm>
              <a:off x="320400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1" name="图片 14" descr="55b1OOOPIC7c.jpg"/>
          <p:cNvPicPr/>
          <p:nvPr/>
        </p:nvPicPr>
        <p:blipFill>
          <a:blip r:embed="rId7"/>
          <a:stretch/>
        </p:blipFill>
        <p:spPr>
          <a:xfrm>
            <a:off x="900000" y="4869000"/>
            <a:ext cx="2232000" cy="183348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17" descr="10-140424144425250.jpg"/>
          <p:cNvPicPr/>
          <p:nvPr/>
        </p:nvPicPr>
        <p:blipFill>
          <a:blip r:embed="rId8"/>
          <a:stretch/>
        </p:blipFill>
        <p:spPr>
          <a:xfrm>
            <a:off x="6443640" y="1585800"/>
            <a:ext cx="1368360" cy="1185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未标题-1 拷贝"/>
          <p:cNvPicPr/>
          <p:nvPr/>
        </p:nvPicPr>
        <p:blipFill>
          <a:blip r:embed="rId9"/>
          <a:stretch/>
        </p:blipFill>
        <p:spPr>
          <a:xfrm rot="1774200">
            <a:off x="250560" y="3499920"/>
            <a:ext cx="1438200" cy="1398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1111gif"/>
          <p:cNvPicPr/>
          <p:nvPr/>
        </p:nvPicPr>
        <p:blipFill>
          <a:blip r:embed="rId10"/>
          <a:stretch/>
        </p:blipFill>
        <p:spPr>
          <a:xfrm rot="20579400">
            <a:off x="6621120" y="3022200"/>
            <a:ext cx="1224000" cy="411120"/>
          </a:xfrm>
          <a:prstGeom prst="rect">
            <a:avLst/>
          </a:prstGeom>
          <a:ln w="0">
            <a:noFill/>
          </a:ln>
        </p:spPr>
      </p:pic>
      <p:sp>
        <p:nvSpPr>
          <p:cNvPr id="275" name="矩形 3"/>
          <p:cNvSpPr/>
          <p:nvPr/>
        </p:nvSpPr>
        <p:spPr>
          <a:xfrm>
            <a:off x="1940040" y="770040"/>
            <a:ext cx="313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成为好朋友后，他们每天都会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5"/>
          <p:cNvGrpSpPr/>
          <p:nvPr/>
        </p:nvGrpSpPr>
        <p:grpSpPr>
          <a:xfrm>
            <a:off x="-28440" y="0"/>
            <a:ext cx="9172440" cy="6858000"/>
            <a:chOff x="-28440" y="0"/>
            <a:chExt cx="9172440" cy="6858000"/>
          </a:xfrm>
        </p:grpSpPr>
        <p:pic>
          <p:nvPicPr>
            <p:cNvPr id="277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28440" y="0"/>
              <a:ext cx="91724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图片 7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083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图片 8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7164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图片 9" descr="200842992417999.jpg"/>
            <p:cNvPicPr/>
            <p:nvPr/>
          </p:nvPicPr>
          <p:blipFill>
            <a:blip r:embed="rId4"/>
            <a:stretch/>
          </p:blipFill>
          <p:spPr>
            <a:xfrm>
              <a:off x="558036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图片 10" descr="200842992417999.jpg"/>
            <p:cNvPicPr/>
            <p:nvPr/>
          </p:nvPicPr>
          <p:blipFill>
            <a:blip r:embed="rId5"/>
            <a:stretch/>
          </p:blipFill>
          <p:spPr>
            <a:xfrm>
              <a:off x="370800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图片 11" descr="200842992417999.jpg"/>
            <p:cNvPicPr/>
            <p:nvPr/>
          </p:nvPicPr>
          <p:blipFill>
            <a:blip r:embed="rId6"/>
            <a:stretch/>
          </p:blipFill>
          <p:spPr>
            <a:xfrm>
              <a:off x="320400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3" name="图片 14" descr="55b1OOOPIC7c.jpg"/>
          <p:cNvPicPr/>
          <p:nvPr/>
        </p:nvPicPr>
        <p:blipFill>
          <a:blip r:embed="rId7"/>
          <a:stretch/>
        </p:blipFill>
        <p:spPr>
          <a:xfrm>
            <a:off x="900000" y="4869000"/>
            <a:ext cx="2232000" cy="183348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17" descr="10-140424144425250.jpg"/>
          <p:cNvPicPr/>
          <p:nvPr/>
        </p:nvPicPr>
        <p:blipFill>
          <a:blip r:embed="rId8"/>
          <a:stretch/>
        </p:blipFill>
        <p:spPr>
          <a:xfrm>
            <a:off x="6443640" y="1585800"/>
            <a:ext cx="1368360" cy="1185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未标题-1 拷贝"/>
          <p:cNvPicPr/>
          <p:nvPr/>
        </p:nvPicPr>
        <p:blipFill>
          <a:blip r:embed="rId9"/>
          <a:stretch/>
        </p:blipFill>
        <p:spPr>
          <a:xfrm rot="1774200">
            <a:off x="250560" y="3499920"/>
            <a:ext cx="1438200" cy="13986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1111gif"/>
          <p:cNvPicPr/>
          <p:nvPr/>
        </p:nvPicPr>
        <p:blipFill>
          <a:blip r:embed="rId10"/>
          <a:stretch/>
        </p:blipFill>
        <p:spPr>
          <a:xfrm rot="20579400">
            <a:off x="6621120" y="3022200"/>
            <a:ext cx="1224000" cy="411120"/>
          </a:xfrm>
          <a:prstGeom prst="rect">
            <a:avLst/>
          </a:prstGeom>
          <a:ln w="0">
            <a:noFill/>
          </a:ln>
        </p:spPr>
      </p:pic>
      <p:sp>
        <p:nvSpPr>
          <p:cNvPr id="287" name="矩形 3"/>
          <p:cNvSpPr/>
          <p:nvPr/>
        </p:nvSpPr>
        <p:spPr>
          <a:xfrm>
            <a:off x="1940040" y="770040"/>
            <a:ext cx="313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后来，这对好朋友之间又发生了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3"/>
          <p:cNvSpPr/>
          <p:nvPr/>
        </p:nvSpPr>
        <p:spPr>
          <a:xfrm>
            <a:off x="1282680" y="495360"/>
            <a:ext cx="6319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抓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住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愿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意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风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松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鼠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祝你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幸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"/>
          <p:cNvSpPr/>
          <p:nvPr/>
        </p:nvSpPr>
        <p:spPr>
          <a:xfrm>
            <a:off x="906480" y="3902040"/>
            <a:ext cx="789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折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纸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船 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扎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风筝  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抓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住  </a:t>
            </a: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"/>
              </a:rPr>
              <a:t>祝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组合 7"/>
          <p:cNvGrpSpPr/>
          <p:nvPr/>
        </p:nvGrpSpPr>
        <p:grpSpPr>
          <a:xfrm>
            <a:off x="1849320" y="2327400"/>
            <a:ext cx="836640" cy="850680"/>
            <a:chOff x="1849320" y="2327400"/>
            <a:chExt cx="836640" cy="850680"/>
          </a:xfrm>
        </p:grpSpPr>
        <p:sp>
          <p:nvSpPr>
            <p:cNvPr id="291" name="矩形 1"/>
            <p:cNvSpPr/>
            <p:nvPr/>
          </p:nvSpPr>
          <p:spPr>
            <a:xfrm>
              <a:off x="1849320" y="232740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4"/>
            <p:cNvSpPr/>
            <p:nvPr/>
          </p:nvSpPr>
          <p:spPr>
            <a:xfrm>
              <a:off x="1849320" y="27396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6"/>
            <p:cNvSpPr/>
            <p:nvPr/>
          </p:nvSpPr>
          <p:spPr>
            <a:xfrm>
              <a:off x="2268000" y="234072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文本框 64"/>
          <p:cNvSpPr/>
          <p:nvPr/>
        </p:nvSpPr>
        <p:spPr>
          <a:xfrm>
            <a:off x="1878120" y="227340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7"/>
          <p:cNvGrpSpPr/>
          <p:nvPr/>
        </p:nvGrpSpPr>
        <p:grpSpPr>
          <a:xfrm>
            <a:off x="4786200" y="2313000"/>
            <a:ext cx="836640" cy="851040"/>
            <a:chOff x="4786200" y="2313000"/>
            <a:chExt cx="836640" cy="851040"/>
          </a:xfrm>
        </p:grpSpPr>
        <p:sp>
          <p:nvSpPr>
            <p:cNvPr id="296" name="矩形 1"/>
            <p:cNvSpPr/>
            <p:nvPr/>
          </p:nvSpPr>
          <p:spPr>
            <a:xfrm>
              <a:off x="4786200" y="23130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直接连接符 4"/>
            <p:cNvSpPr/>
            <p:nvPr/>
          </p:nvSpPr>
          <p:spPr>
            <a:xfrm>
              <a:off x="4786200" y="27252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6"/>
            <p:cNvSpPr/>
            <p:nvPr/>
          </p:nvSpPr>
          <p:spPr>
            <a:xfrm>
              <a:off x="5204880" y="232632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92"/>
          <p:cNvSpPr/>
          <p:nvPr/>
        </p:nvSpPr>
        <p:spPr>
          <a:xfrm>
            <a:off x="4836960" y="227016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7"/>
          <p:cNvGrpSpPr/>
          <p:nvPr/>
        </p:nvGrpSpPr>
        <p:grpSpPr>
          <a:xfrm>
            <a:off x="3292560" y="2316240"/>
            <a:ext cx="836640" cy="850680"/>
            <a:chOff x="3292560" y="2316240"/>
            <a:chExt cx="836640" cy="850680"/>
          </a:xfrm>
        </p:grpSpPr>
        <p:sp>
          <p:nvSpPr>
            <p:cNvPr id="301" name="直接连接符 4"/>
            <p:cNvSpPr/>
            <p:nvPr/>
          </p:nvSpPr>
          <p:spPr>
            <a:xfrm>
              <a:off x="3292560" y="272844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6"/>
            <p:cNvSpPr/>
            <p:nvPr/>
          </p:nvSpPr>
          <p:spPr>
            <a:xfrm>
              <a:off x="3711240" y="232956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1"/>
            <p:cNvSpPr/>
            <p:nvPr/>
          </p:nvSpPr>
          <p:spPr>
            <a:xfrm>
              <a:off x="3292560" y="231624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7"/>
          <p:cNvGrpSpPr/>
          <p:nvPr/>
        </p:nvGrpSpPr>
        <p:grpSpPr>
          <a:xfrm>
            <a:off x="6284880" y="2300400"/>
            <a:ext cx="836640" cy="850680"/>
            <a:chOff x="6284880" y="2300400"/>
            <a:chExt cx="836640" cy="850680"/>
          </a:xfrm>
        </p:grpSpPr>
        <p:sp>
          <p:nvSpPr>
            <p:cNvPr id="305" name="矩形 1"/>
            <p:cNvSpPr/>
            <p:nvPr/>
          </p:nvSpPr>
          <p:spPr>
            <a:xfrm>
              <a:off x="6284880" y="230040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直接连接符 4"/>
            <p:cNvSpPr/>
            <p:nvPr/>
          </p:nvSpPr>
          <p:spPr>
            <a:xfrm>
              <a:off x="6284880" y="27126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直接连接符 6"/>
            <p:cNvSpPr/>
            <p:nvPr/>
          </p:nvSpPr>
          <p:spPr>
            <a:xfrm>
              <a:off x="6703560" y="231372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文本框 64"/>
          <p:cNvSpPr/>
          <p:nvPr/>
        </p:nvSpPr>
        <p:spPr>
          <a:xfrm>
            <a:off x="6299280" y="227016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1704960" y="30672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折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3119400" y="307332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白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4629240" y="303048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一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6127920" y="300672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祝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86"/>
          <p:cNvSpPr/>
          <p:nvPr/>
        </p:nvSpPr>
        <p:spPr>
          <a:xfrm>
            <a:off x="3341520" y="227340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179280" y="1000080"/>
            <a:ext cx="2737080" cy="1057320"/>
            <a:chOff x="179280" y="1000080"/>
            <a:chExt cx="2737080" cy="1057320"/>
          </a:xfrm>
        </p:grpSpPr>
        <p:pic>
          <p:nvPicPr>
            <p:cNvPr id="315" name="Text Box 15" descr=""/>
            <p:cNvPicPr/>
            <p:nvPr/>
          </p:nvPicPr>
          <p:blipFill>
            <a:blip r:embed="rId1"/>
            <a:stretch/>
          </p:blipFill>
          <p:spPr>
            <a:xfrm>
              <a:off x="862920" y="1186920"/>
              <a:ext cx="2053440" cy="87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图片 2" descr=""/>
            <p:cNvPicPr/>
            <p:nvPr/>
          </p:nvPicPr>
          <p:blipFill>
            <a:blip r:embed="rId2"/>
            <a:stretch/>
          </p:blipFill>
          <p:spPr>
            <a:xfrm>
              <a:off x="179280" y="1000080"/>
              <a:ext cx="1121400" cy="83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7" name="组合 7"/>
          <p:cNvGrpSpPr/>
          <p:nvPr/>
        </p:nvGrpSpPr>
        <p:grpSpPr>
          <a:xfrm>
            <a:off x="1897200" y="3948120"/>
            <a:ext cx="836640" cy="851040"/>
            <a:chOff x="1897200" y="3948120"/>
            <a:chExt cx="836640" cy="851040"/>
          </a:xfrm>
        </p:grpSpPr>
        <p:sp>
          <p:nvSpPr>
            <p:cNvPr id="318" name="矩形 1"/>
            <p:cNvSpPr/>
            <p:nvPr/>
          </p:nvSpPr>
          <p:spPr>
            <a:xfrm>
              <a:off x="1897200" y="394812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4"/>
            <p:cNvSpPr/>
            <p:nvPr/>
          </p:nvSpPr>
          <p:spPr>
            <a:xfrm>
              <a:off x="1897200" y="436032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6"/>
            <p:cNvSpPr/>
            <p:nvPr/>
          </p:nvSpPr>
          <p:spPr>
            <a:xfrm>
              <a:off x="2315880" y="396144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64"/>
          <p:cNvSpPr/>
          <p:nvPr/>
        </p:nvSpPr>
        <p:spPr>
          <a:xfrm>
            <a:off x="1925640" y="38941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"/>
          <p:cNvGrpSpPr/>
          <p:nvPr/>
        </p:nvGrpSpPr>
        <p:grpSpPr>
          <a:xfrm>
            <a:off x="4834080" y="3935520"/>
            <a:ext cx="836640" cy="850680"/>
            <a:chOff x="4834080" y="3935520"/>
            <a:chExt cx="836640" cy="850680"/>
          </a:xfrm>
        </p:grpSpPr>
        <p:sp>
          <p:nvSpPr>
            <p:cNvPr id="323" name="矩形 1"/>
            <p:cNvSpPr/>
            <p:nvPr/>
          </p:nvSpPr>
          <p:spPr>
            <a:xfrm>
              <a:off x="4834080" y="393552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4"/>
            <p:cNvSpPr/>
            <p:nvPr/>
          </p:nvSpPr>
          <p:spPr>
            <a:xfrm>
              <a:off x="4834080" y="434772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"/>
            <p:cNvSpPr/>
            <p:nvPr/>
          </p:nvSpPr>
          <p:spPr>
            <a:xfrm>
              <a:off x="5252760" y="394884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92"/>
          <p:cNvSpPr/>
          <p:nvPr/>
        </p:nvSpPr>
        <p:spPr>
          <a:xfrm>
            <a:off x="4884840" y="389268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7"/>
          <p:cNvGrpSpPr/>
          <p:nvPr/>
        </p:nvGrpSpPr>
        <p:grpSpPr>
          <a:xfrm>
            <a:off x="3340080" y="3936960"/>
            <a:ext cx="836640" cy="851040"/>
            <a:chOff x="3340080" y="3936960"/>
            <a:chExt cx="836640" cy="851040"/>
          </a:xfrm>
        </p:grpSpPr>
        <p:sp>
          <p:nvSpPr>
            <p:cNvPr id="328" name="直接连接符 4"/>
            <p:cNvSpPr/>
            <p:nvPr/>
          </p:nvSpPr>
          <p:spPr>
            <a:xfrm>
              <a:off x="3340080" y="434916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6"/>
            <p:cNvSpPr/>
            <p:nvPr/>
          </p:nvSpPr>
          <p:spPr>
            <a:xfrm>
              <a:off x="3758760" y="395028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1"/>
            <p:cNvSpPr/>
            <p:nvPr/>
          </p:nvSpPr>
          <p:spPr>
            <a:xfrm>
              <a:off x="3340080" y="393696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6332400" y="3922560"/>
            <a:ext cx="836640" cy="851040"/>
            <a:chOff x="6332400" y="3922560"/>
            <a:chExt cx="836640" cy="851040"/>
          </a:xfrm>
        </p:grpSpPr>
        <p:sp>
          <p:nvSpPr>
            <p:cNvPr id="332" name="矩形 1"/>
            <p:cNvSpPr/>
            <p:nvPr/>
          </p:nvSpPr>
          <p:spPr>
            <a:xfrm>
              <a:off x="6332400" y="392256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4"/>
            <p:cNvSpPr/>
            <p:nvPr/>
          </p:nvSpPr>
          <p:spPr>
            <a:xfrm>
              <a:off x="6332400" y="433476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6"/>
            <p:cNvSpPr/>
            <p:nvPr/>
          </p:nvSpPr>
          <p:spPr>
            <a:xfrm>
              <a:off x="6751080" y="393588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文本框 64"/>
          <p:cNvSpPr/>
          <p:nvPr/>
        </p:nvSpPr>
        <p:spPr>
          <a:xfrm>
            <a:off x="6346800" y="389268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1353960" y="4687920"/>
            <a:ext cx="17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扎风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3166920" y="469440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抓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676760" y="46530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但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6175440" y="462924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大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86"/>
          <p:cNvSpPr/>
          <p:nvPr/>
        </p:nvSpPr>
        <p:spPr>
          <a:xfrm>
            <a:off x="3389400" y="38941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F:\PPT模板及注意事项\笔顺视频链接图片.png"/>
          <p:cNvPicPr/>
          <p:nvPr/>
        </p:nvPicPr>
        <p:blipFill>
          <a:blip r:embed="rId3"/>
          <a:stretch/>
        </p:blipFill>
        <p:spPr>
          <a:xfrm>
            <a:off x="5454720" y="1014480"/>
            <a:ext cx="18730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3"/>
          <p:cNvSpPr/>
          <p:nvPr/>
        </p:nvSpPr>
        <p:spPr>
          <a:xfrm>
            <a:off x="3006720" y="1419120"/>
            <a:ext cx="31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第二课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2"/>
          <p:cNvGrpSpPr/>
          <p:nvPr/>
        </p:nvGrpSpPr>
        <p:grpSpPr>
          <a:xfrm>
            <a:off x="614520" y="1368360"/>
            <a:ext cx="2904840" cy="666720"/>
            <a:chOff x="614520" y="1368360"/>
            <a:chExt cx="2904840" cy="666720"/>
          </a:xfrm>
        </p:grpSpPr>
        <p:sp>
          <p:nvSpPr>
            <p:cNvPr id="344" name="圆角矩形 14"/>
            <p:cNvSpPr/>
            <p:nvPr/>
          </p:nvSpPr>
          <p:spPr>
            <a:xfrm>
              <a:off x="1430280" y="1506240"/>
              <a:ext cx="2089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14520" y="136836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文本框 16"/>
            <p:cNvSpPr/>
            <p:nvPr/>
          </p:nvSpPr>
          <p:spPr>
            <a:xfrm>
              <a:off x="1689840" y="15253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Box 1"/>
          <p:cNvSpPr/>
          <p:nvPr/>
        </p:nvSpPr>
        <p:spPr>
          <a:xfrm>
            <a:off x="668160" y="2873520"/>
            <a:ext cx="780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松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折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纸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浮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扎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风筝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抓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福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但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是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愿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意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哭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了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取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30"/>
          <p:cNvSpPr/>
          <p:nvPr/>
        </p:nvSpPr>
        <p:spPr>
          <a:xfrm>
            <a:off x="6924600" y="3648240"/>
            <a:ext cx="10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31"/>
          <p:cNvSpPr/>
          <p:nvPr/>
        </p:nvSpPr>
        <p:spPr>
          <a:xfrm>
            <a:off x="1051560" y="239220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32"/>
          <p:cNvSpPr/>
          <p:nvPr/>
        </p:nvSpPr>
        <p:spPr>
          <a:xfrm>
            <a:off x="2044080" y="243216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3"/>
          <p:cNvSpPr/>
          <p:nvPr/>
        </p:nvSpPr>
        <p:spPr>
          <a:xfrm>
            <a:off x="3522240" y="2438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p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34"/>
          <p:cNvSpPr/>
          <p:nvPr/>
        </p:nvSpPr>
        <p:spPr>
          <a:xfrm>
            <a:off x="5225760" y="2443320"/>
            <a:ext cx="6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35"/>
          <p:cNvSpPr/>
          <p:nvPr/>
        </p:nvSpPr>
        <p:spPr>
          <a:xfrm>
            <a:off x="6917040" y="246384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u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36"/>
          <p:cNvSpPr/>
          <p:nvPr/>
        </p:nvSpPr>
        <p:spPr>
          <a:xfrm>
            <a:off x="533160" y="363384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37"/>
          <p:cNvSpPr/>
          <p:nvPr/>
        </p:nvSpPr>
        <p:spPr>
          <a:xfrm>
            <a:off x="1992960" y="3633840"/>
            <a:ext cx="10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38"/>
          <p:cNvSpPr/>
          <p:nvPr/>
        </p:nvSpPr>
        <p:spPr>
          <a:xfrm>
            <a:off x="3446640" y="3637080"/>
            <a:ext cx="13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u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39"/>
          <p:cNvSpPr/>
          <p:nvPr/>
        </p:nvSpPr>
        <p:spPr>
          <a:xfrm>
            <a:off x="5198040" y="36370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图片 28" descr="2.png"/>
          <p:cNvPicPr/>
          <p:nvPr/>
        </p:nvPicPr>
        <p:blipFill>
          <a:blip r:embed="rId1"/>
          <a:stretch/>
        </p:blipFill>
        <p:spPr>
          <a:xfrm>
            <a:off x="6588000" y="930240"/>
            <a:ext cx="2954520" cy="321948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27" descr="1.png"/>
          <p:cNvPicPr/>
          <p:nvPr/>
        </p:nvPicPr>
        <p:blipFill>
          <a:blip r:embed="rId2"/>
          <a:stretch/>
        </p:blipFill>
        <p:spPr>
          <a:xfrm>
            <a:off x="-1044720" y="836640"/>
            <a:ext cx="2954520" cy="321948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28" descr="2.png"/>
          <p:cNvPicPr/>
          <p:nvPr/>
        </p:nvPicPr>
        <p:blipFill>
          <a:blip r:embed="rId3"/>
          <a:stretch/>
        </p:blipFill>
        <p:spPr>
          <a:xfrm>
            <a:off x="468360" y="858960"/>
            <a:ext cx="2954160" cy="321948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30" descr="4.png"/>
          <p:cNvPicPr/>
          <p:nvPr/>
        </p:nvPicPr>
        <p:blipFill>
          <a:blip r:embed="rId4"/>
          <a:stretch/>
        </p:blipFill>
        <p:spPr>
          <a:xfrm>
            <a:off x="1979640" y="884160"/>
            <a:ext cx="2954160" cy="321804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31" descr="5.png"/>
          <p:cNvPicPr/>
          <p:nvPr/>
        </p:nvPicPr>
        <p:blipFill>
          <a:blip r:embed="rId5"/>
          <a:stretch/>
        </p:blipFill>
        <p:spPr>
          <a:xfrm>
            <a:off x="3489480" y="1003320"/>
            <a:ext cx="2954160" cy="321768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32" descr="54J58PICtKX_1024.png"/>
          <p:cNvPicPr/>
          <p:nvPr/>
        </p:nvPicPr>
        <p:blipFill>
          <a:blip r:embed="rId6"/>
          <a:stretch/>
        </p:blipFill>
        <p:spPr>
          <a:xfrm>
            <a:off x="5076720" y="932040"/>
            <a:ext cx="2954520" cy="321768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33" descr="2.png"/>
          <p:cNvPicPr/>
          <p:nvPr/>
        </p:nvPicPr>
        <p:blipFill>
          <a:blip r:embed="rId7"/>
          <a:stretch/>
        </p:blipFill>
        <p:spPr>
          <a:xfrm>
            <a:off x="-468360" y="3979800"/>
            <a:ext cx="2865600" cy="31212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34" descr="3.png"/>
          <p:cNvPicPr/>
          <p:nvPr/>
        </p:nvPicPr>
        <p:blipFill>
          <a:blip r:embed="rId8"/>
          <a:stretch/>
        </p:blipFill>
        <p:spPr>
          <a:xfrm>
            <a:off x="4462560" y="4076640"/>
            <a:ext cx="2865240" cy="312120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35" descr="4.png"/>
          <p:cNvPicPr/>
          <p:nvPr/>
        </p:nvPicPr>
        <p:blipFill>
          <a:blip r:embed="rId9"/>
          <a:stretch/>
        </p:blipFill>
        <p:spPr>
          <a:xfrm>
            <a:off x="1274760" y="4005360"/>
            <a:ext cx="2865600" cy="311940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36" descr="54J58PICtKX_1024.png"/>
          <p:cNvPicPr/>
          <p:nvPr/>
        </p:nvPicPr>
        <p:blipFill>
          <a:blip r:embed="rId10"/>
          <a:stretch/>
        </p:blipFill>
        <p:spPr>
          <a:xfrm>
            <a:off x="2843280" y="4052880"/>
            <a:ext cx="2867040" cy="311940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37" descr="1.png"/>
          <p:cNvPicPr/>
          <p:nvPr/>
        </p:nvPicPr>
        <p:blipFill>
          <a:blip r:embed="rId11"/>
          <a:stretch/>
        </p:blipFill>
        <p:spPr>
          <a:xfrm>
            <a:off x="6156360" y="4102200"/>
            <a:ext cx="2865240" cy="31194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8"/>
          <p:cNvSpPr/>
          <p:nvPr/>
        </p:nvSpPr>
        <p:spPr>
          <a:xfrm>
            <a:off x="179280" y="1168560"/>
            <a:ext cx="10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39"/>
          <p:cNvSpPr/>
          <p:nvPr/>
        </p:nvSpPr>
        <p:spPr>
          <a:xfrm>
            <a:off x="1752480" y="1096920"/>
            <a:ext cx="10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1"/>
          <p:cNvSpPr/>
          <p:nvPr/>
        </p:nvSpPr>
        <p:spPr>
          <a:xfrm>
            <a:off x="3203640" y="1125360"/>
            <a:ext cx="10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42"/>
          <p:cNvSpPr/>
          <p:nvPr/>
        </p:nvSpPr>
        <p:spPr>
          <a:xfrm>
            <a:off x="5651640" y="4408560"/>
            <a:ext cx="102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3"/>
          <p:cNvSpPr/>
          <p:nvPr/>
        </p:nvSpPr>
        <p:spPr>
          <a:xfrm>
            <a:off x="6286680" y="1168560"/>
            <a:ext cx="102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4"/>
          <p:cNvSpPr/>
          <p:nvPr/>
        </p:nvSpPr>
        <p:spPr>
          <a:xfrm>
            <a:off x="8002800" y="11685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45"/>
          <p:cNvSpPr/>
          <p:nvPr/>
        </p:nvSpPr>
        <p:spPr>
          <a:xfrm>
            <a:off x="904320" y="43131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46"/>
          <p:cNvSpPr/>
          <p:nvPr/>
        </p:nvSpPr>
        <p:spPr>
          <a:xfrm>
            <a:off x="2586960" y="43369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47"/>
          <p:cNvSpPr/>
          <p:nvPr/>
        </p:nvSpPr>
        <p:spPr>
          <a:xfrm>
            <a:off x="4217400" y="44085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48"/>
          <p:cNvSpPr/>
          <p:nvPr/>
        </p:nvSpPr>
        <p:spPr>
          <a:xfrm>
            <a:off x="7556040" y="44085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2"/>
          <p:cNvSpPr/>
          <p:nvPr/>
        </p:nvSpPr>
        <p:spPr>
          <a:xfrm>
            <a:off x="4776840" y="1168560"/>
            <a:ext cx="10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组合 5"/>
          <p:cNvGrpSpPr/>
          <p:nvPr/>
        </p:nvGrpSpPr>
        <p:grpSpPr>
          <a:xfrm>
            <a:off x="-28440" y="0"/>
            <a:ext cx="9172440" cy="6858000"/>
            <a:chOff x="-28440" y="0"/>
            <a:chExt cx="9172440" cy="6858000"/>
          </a:xfrm>
        </p:grpSpPr>
        <p:pic>
          <p:nvPicPr>
            <p:cNvPr id="381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28440" y="0"/>
              <a:ext cx="91724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图片 7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083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图片 8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7164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图片 9" descr="200842992417999.jpg"/>
            <p:cNvPicPr/>
            <p:nvPr/>
          </p:nvPicPr>
          <p:blipFill>
            <a:blip r:embed="rId4"/>
            <a:stretch/>
          </p:blipFill>
          <p:spPr>
            <a:xfrm>
              <a:off x="558036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图片 10" descr="200842992417999.jpg"/>
            <p:cNvPicPr/>
            <p:nvPr/>
          </p:nvPicPr>
          <p:blipFill>
            <a:blip r:embed="rId5"/>
            <a:stretch/>
          </p:blipFill>
          <p:spPr>
            <a:xfrm>
              <a:off x="370800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图片 11" descr="200842992417999.jpg"/>
            <p:cNvPicPr/>
            <p:nvPr/>
          </p:nvPicPr>
          <p:blipFill>
            <a:blip r:embed="rId6"/>
            <a:stretch/>
          </p:blipFill>
          <p:spPr>
            <a:xfrm>
              <a:off x="320400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7" name="图片 14" descr="55b1OOOPIC7c.jpg"/>
          <p:cNvPicPr/>
          <p:nvPr/>
        </p:nvPicPr>
        <p:blipFill>
          <a:blip r:embed="rId7"/>
          <a:stretch/>
        </p:blipFill>
        <p:spPr>
          <a:xfrm>
            <a:off x="900000" y="4869000"/>
            <a:ext cx="2232000" cy="183348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7" descr="10-140424144425250.jpg"/>
          <p:cNvPicPr/>
          <p:nvPr/>
        </p:nvPicPr>
        <p:blipFill>
          <a:blip r:embed="rId8"/>
          <a:stretch/>
        </p:blipFill>
        <p:spPr>
          <a:xfrm>
            <a:off x="6443640" y="1585800"/>
            <a:ext cx="1368360" cy="1185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未标题-1 拷贝"/>
          <p:cNvPicPr/>
          <p:nvPr/>
        </p:nvPicPr>
        <p:blipFill>
          <a:blip r:embed="rId9"/>
          <a:stretch/>
        </p:blipFill>
        <p:spPr>
          <a:xfrm rot="1774200">
            <a:off x="250560" y="3499920"/>
            <a:ext cx="1438200" cy="13986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4"/>
          <p:cNvSpPr/>
          <p:nvPr/>
        </p:nvSpPr>
        <p:spPr>
          <a:xfrm>
            <a:off x="5751360" y="5611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漂哇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5219640" y="333360"/>
            <a:ext cx="23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飘哇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1111gif"/>
          <p:cNvPicPr/>
          <p:nvPr/>
        </p:nvPicPr>
        <p:blipFill>
          <a:blip r:embed="rId10"/>
          <a:stretch/>
        </p:blipFill>
        <p:spPr>
          <a:xfrm rot="20579400">
            <a:off x="6621120" y="3022200"/>
            <a:ext cx="12240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33858E-006 C -0.00156 0.00162 -0.0033 0.00324 -0.00486 0.00486 C -0.00573 0.00601 -0.00642 0.0074 -0.00746 0.00833 C -0.00972 0.01064 -0.01475 0.0148 -0.01475 0.0148 C -0.02066 0.0259 -0.02725 0.03515 -0.03576 0.04278 C -0.03715 0.04579 -0.03941 0.04787 -0.0408 0.05088 C -0.04149 0.0525 -0.04114 0.05481 -0.04201 0.05597 C -0.04409 0.05874 -0.0493 0.06244 -0.0493 0.06244 C -0.05104 0.06869 -0.05625 0.07516 -0.06041 0.07886 C -0.06493 0.08788 -0.06805 0.09759 -0.07413 0.10523 C -0.07639 0.11425 -0.07656 0.11795 -0.08264 0.12327 C -0.08455 0.12997 -0.0868 0.13275 -0.0901 0.13807 C -0.09288 0.14269 -0.09305 0.14709 -0.09635 0.15125 C -0.09826 0.15934 -0.10434 0.17414 -0.10989 0.17923 C -0.11145 0.18224 -0.1118 0.18617 -0.11354 0.18918 C -0.11875 0.19796 -0.12621 0.20583 -0.13211 0.21369 C -0.13923 0.22317 -0.14253 0.23728 -0.1493 0.24676 C -0.15069 0.25162 -0.15243 0.25717 -0.15434 0.26156 C -0.15573 0.26503 -0.1592 0.27128 -0.1592 0.27128 C -0.1625 0.28492 -0.15798 0.26873 -0.16302 0.2796 C -0.16684 0.28793 -0.16875 0.29718 -0.17413 0.30435 C -0.17621 0.3129 -0.1802 0.321 -0.18524 0.32724 C -0.18854 0.34066 -0.18385 0.32424 -0.18889 0.33557 C -0.19166 0.34181 -0.19392 0.34968 -0.19757 0.35523 C -0.19895 0.35731 -0.20086 0.35823 -0.20243 0.36008 C -0.2092 0.36795 -0.21458 0.37812 -0.22222 0.38483 C -0.23055 0.392 -0.23836 0.39732 -0.24687 0.40287 C -0.26128 0.41235 -0.27257 0.42831 -0.28524 0.4408 C -0.29218 0.44773 -0.29913 0.45282 -0.30625 0.45883 C -0.30573 0.45722 -0.30486 0.45398 -0.30486 0.45398 E">
                                      <p:cBhvr>
                                        <p:cTn id="368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-0.0703 C 0.08125 -0.10199 0.09184 -0.13298 0.11215 -0.142 C 0.13229 -0.15055 0.17083 -0.11216 0.19218 -0.1228 C 0.21406 -0.13298 0.22222 -0.1783 0.24149 -0.2049 C 0.26093 -0.23219 0.28541 -0.27359 0.30885 -0.28399 C 0.33264 -0.29463 0.36128 -0.26202 0.3842 -0.2685 C 0.40694 -0.27521 0.4309 -0.29926 0.44652 -0.32262 C 0.46215 -0.34574 0.46059 -0.38853 0.47743 -0.40865 C 0.49444 -0.42877 0.52847 -0.43039 0.54739 -0.44311 C 0.56632 -0.45629 0.57257 -0.47571 0.59149 -0.48543 C 0.61041 -0.49514 0.6401 -0.50023 0.66145 -0.50023 C 0.68316 -0.50023 0.7026 -0.48566 0.721 -0.48543 C 0.73941 -0.4852 0.76319 -0.49607 0.77187 -0.49884 E">
                                      <p:cBhvr>
                                        <p:cTn id="376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10" descr="5c39ecd97ae9018c96d49bfbeb78610962d411ac16453-v1wghY_fw658.jpg"/>
          <p:cNvPicPr/>
          <p:nvPr/>
        </p:nvPicPr>
        <p:blipFill>
          <a:blip r:embed="rId1"/>
          <a:stretch/>
        </p:blipFill>
        <p:spPr>
          <a:xfrm>
            <a:off x="-420840" y="0"/>
            <a:ext cx="9564840" cy="71740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5559480" y="2060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WordArt 6" descr=""/>
          <p:cNvPicPr/>
          <p:nvPr/>
        </p:nvPicPr>
        <p:blipFill>
          <a:blip r:embed="rId2"/>
          <a:stretch/>
        </p:blipFill>
        <p:spPr>
          <a:xfrm>
            <a:off x="311040" y="757080"/>
            <a:ext cx="8002800" cy="129708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3" descr="0007019895748471_b.png"/>
          <p:cNvPicPr/>
          <p:nvPr/>
        </p:nvPicPr>
        <p:blipFill>
          <a:blip r:embed="rId3"/>
          <a:stretch/>
        </p:blipFill>
        <p:spPr>
          <a:xfrm flipH="1" rot="21000000">
            <a:off x="496800" y="4262040"/>
            <a:ext cx="3559320" cy="230364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8" descr="20100526_75af0aed8e7d75e6baffIsuLgBb4hfqt.jpg"/>
          <p:cNvPicPr/>
          <p:nvPr/>
        </p:nvPicPr>
        <p:blipFill>
          <a:blip r:embed="rId4"/>
          <a:srcRect l="3085" t="15344" r="6070" b="27946"/>
          <a:stretch/>
        </p:blipFill>
        <p:spPr>
          <a:xfrm>
            <a:off x="4660920" y="2508120"/>
            <a:ext cx="42480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未标题-1 拷贝"/>
          <p:cNvPicPr/>
          <p:nvPr/>
        </p:nvPicPr>
        <p:blipFill>
          <a:blip r:embed="rId2"/>
          <a:stretch/>
        </p:blipFill>
        <p:spPr>
          <a:xfrm rot="871200">
            <a:off x="6934320" y="457200"/>
            <a:ext cx="1831680" cy="19051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4"/>
          <p:cNvSpPr/>
          <p:nvPr/>
        </p:nvSpPr>
        <p:spPr>
          <a:xfrm>
            <a:off x="7488360" y="525780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252360" y="765000"/>
            <a:ext cx="482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山顶上再也看不到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飘荡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的风筝，小溪里再也看不到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漂流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的纸船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02"/>
          <p:cNvPicPr/>
          <p:nvPr/>
        </p:nvPicPr>
        <p:blipFill>
          <a:blip r:embed="rId3"/>
          <a:stretch/>
        </p:blipFill>
        <p:spPr>
          <a:xfrm rot="18000000">
            <a:off x="4514400" y="5076360"/>
            <a:ext cx="1352520" cy="647640"/>
          </a:xfrm>
          <a:prstGeom prst="rect">
            <a:avLst/>
          </a:prstGeom>
          <a:ln w="0">
            <a:noFill/>
          </a:ln>
        </p:spPr>
      </p:pic>
      <p:pic>
        <p:nvPicPr>
          <p:cNvPr id="398" name="纯音乐 - 悲伤.mp3" descr=""/>
          <p:cNvPicPr/>
          <p:nvPr/>
        </p:nvPicPr>
        <p:blipFill>
          <a:blip r:embed="rId4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1481E-006 C -0.0059 0.01112 -0.01129 0.02454 -0.01858 0.03357 C -0.02188 0.04538 -0.02431 0.05695 -0.02986 0.06737 C -0.03281 0.08079 -0.0309 0.07315 -0.03559 0.08959 C -0.03802 0.09769 -0.0441 0.10394 -0.0467 0.11227 C -0.05261 0.12987 -0.06025 0.14977 -0.07101 0.16389 C -0.07656 0.18218 -0.0684 0.15973 -0.07882 0.17269 C -0.08004 0.17454 -0.079 0.17778 -0.08038 0.17963 C -0.08177 0.18172 -0.0842 0.18264 -0.08611 0.18403 C -0.08837 0.1919 -0.10243 0.20857 -0.10851 0.21343 C -0.11372 0.22223 -0.1184 0.23149 -0.12344 0.24028 C -0.12604 0.24491 -0.13125 0.25371 -0.13125 0.25394 C -0.13438 0.26713 -0.13004 0.2551 -0.13854 0.26482 C -0.1434 0.27038 -0.1415 0.27176 -0.14427 0.27825 C -0.14531 0.28056 -0.14618 0.28311 -0.14775 0.28519 C -0.14948 0.28704 -0.15347 0.28982 -0.15347 0.29005 E">
                                      <p:cBhvr>
                                        <p:cTn id="394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组合 12"/>
          <p:cNvGrpSpPr/>
          <p:nvPr/>
        </p:nvGrpSpPr>
        <p:grpSpPr>
          <a:xfrm>
            <a:off x="479520" y="1368360"/>
            <a:ext cx="2984400" cy="2594160"/>
            <a:chOff x="479520" y="1368360"/>
            <a:chExt cx="2984400" cy="2594160"/>
          </a:xfrm>
        </p:grpSpPr>
        <p:pic>
          <p:nvPicPr>
            <p:cNvPr id="400" name="图片 6" descr="图片1.png"/>
            <p:cNvPicPr/>
            <p:nvPr/>
          </p:nvPicPr>
          <p:blipFill>
            <a:blip r:embed="rId1"/>
            <a:stretch/>
          </p:blipFill>
          <p:spPr>
            <a:xfrm>
              <a:off x="479520" y="1368360"/>
              <a:ext cx="2984400" cy="18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图片 10" descr="14187884022836.png"/>
            <p:cNvPicPr/>
            <p:nvPr/>
          </p:nvPicPr>
          <p:blipFill>
            <a:blip r:embed="rId2"/>
            <a:stretch/>
          </p:blipFill>
          <p:spPr>
            <a:xfrm>
              <a:off x="1810080" y="1512720"/>
              <a:ext cx="1653840" cy="244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2" name="组合 13"/>
          <p:cNvGrpSpPr/>
          <p:nvPr/>
        </p:nvGrpSpPr>
        <p:grpSpPr>
          <a:xfrm>
            <a:off x="701640" y="3367080"/>
            <a:ext cx="2762280" cy="1979640"/>
            <a:chOff x="701640" y="3367080"/>
            <a:chExt cx="2762280" cy="1979640"/>
          </a:xfrm>
        </p:grpSpPr>
        <p:pic>
          <p:nvPicPr>
            <p:cNvPr id="403" name="图片 7" descr="图片2.png"/>
            <p:cNvPicPr/>
            <p:nvPr/>
          </p:nvPicPr>
          <p:blipFill>
            <a:blip r:embed="rId3"/>
            <a:stretch/>
          </p:blipFill>
          <p:spPr>
            <a:xfrm>
              <a:off x="701640" y="3367080"/>
              <a:ext cx="2762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图片 11" descr="21108358_172119862000_2.png"/>
            <p:cNvPicPr/>
            <p:nvPr/>
          </p:nvPicPr>
          <p:blipFill>
            <a:blip r:embed="rId4"/>
            <a:stretch/>
          </p:blipFill>
          <p:spPr>
            <a:xfrm>
              <a:off x="3124800" y="3608280"/>
              <a:ext cx="339120" cy="69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Rectangle 4"/>
          <p:cNvSpPr/>
          <p:nvPr/>
        </p:nvSpPr>
        <p:spPr>
          <a:xfrm>
            <a:off x="3568680" y="1878120"/>
            <a:ext cx="41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很难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55600" y="4106520"/>
            <a:ext cx="26593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也很难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888840" y="214200"/>
            <a:ext cx="725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此时，他们的心情会怎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47880" y="5583240"/>
            <a:ext cx="7248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他们又会怎么做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组合 7"/>
          <p:cNvGrpSpPr/>
          <p:nvPr/>
        </p:nvGrpSpPr>
        <p:grpSpPr>
          <a:xfrm>
            <a:off x="-181080" y="0"/>
            <a:ext cx="9396360" cy="3860640"/>
            <a:chOff x="-181080" y="0"/>
            <a:chExt cx="9396360" cy="3860640"/>
          </a:xfrm>
        </p:grpSpPr>
        <p:pic>
          <p:nvPicPr>
            <p:cNvPr id="410" name="图片 8" descr="图片1.png"/>
            <p:cNvPicPr/>
            <p:nvPr/>
          </p:nvPicPr>
          <p:blipFill>
            <a:blip r:embed="rId1"/>
            <a:stretch/>
          </p:blipFill>
          <p:spPr>
            <a:xfrm>
              <a:off x="-181080" y="0"/>
              <a:ext cx="9396360" cy="351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图片 9" descr="14187884022836.png"/>
            <p:cNvPicPr/>
            <p:nvPr/>
          </p:nvPicPr>
          <p:blipFill>
            <a:blip r:embed="rId2"/>
            <a:stretch/>
          </p:blipFill>
          <p:spPr>
            <a:xfrm>
              <a:off x="5289480" y="1412640"/>
              <a:ext cx="3170160" cy="24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2" name="组合 10"/>
          <p:cNvGrpSpPr/>
          <p:nvPr/>
        </p:nvGrpSpPr>
        <p:grpSpPr>
          <a:xfrm>
            <a:off x="-252360" y="3664080"/>
            <a:ext cx="9443880" cy="3176280"/>
            <a:chOff x="-252360" y="3664080"/>
            <a:chExt cx="9443880" cy="3176280"/>
          </a:xfrm>
        </p:grpSpPr>
        <p:pic>
          <p:nvPicPr>
            <p:cNvPr id="413" name="图片 11" descr="图片2.png"/>
            <p:cNvPicPr/>
            <p:nvPr/>
          </p:nvPicPr>
          <p:blipFill>
            <a:blip r:embed="rId3"/>
            <a:stretch/>
          </p:blipFill>
          <p:spPr>
            <a:xfrm>
              <a:off x="-252360" y="3664080"/>
              <a:ext cx="9443880" cy="31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图片 12" descr="21108358_172119862000_2.png"/>
            <p:cNvPicPr/>
            <p:nvPr/>
          </p:nvPicPr>
          <p:blipFill>
            <a:blip r:embed="rId4"/>
            <a:stretch/>
          </p:blipFill>
          <p:spPr>
            <a:xfrm>
              <a:off x="6156720" y="4580640"/>
              <a:ext cx="824760" cy="9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 Box 4"/>
          <p:cNvSpPr/>
          <p:nvPr/>
        </p:nvSpPr>
        <p:spPr>
          <a:xfrm>
            <a:off x="-36360" y="3970440"/>
            <a:ext cx="5903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松鼠也很难过。他还是每天折一只纸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他也不好意思把纸船放进小溪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就把纸船放到屋顶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189000"/>
            <a:ext cx="57243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小熊很难过。他还是每天扎一只风筝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但是不好意思把风筝放起来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4000" spc="-1" strike="noStrike">
                <a:solidFill>
                  <a:srgbClr val="333333"/>
                </a:solidFill>
                <a:latin typeface="楷体"/>
                <a:ea typeface="楷体"/>
              </a:rPr>
              <a:t>就把风筝挂在高高的树枝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群星 - 天空之城 (吟唱版).mp3" descr=""/>
          <p:cNvPicPr/>
          <p:nvPr/>
        </p:nvPicPr>
        <p:blipFill>
          <a:blip r:embed="rId5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223115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20" descr="2012120911325426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N_183"/>
          <p:cNvPicPr/>
          <p:nvPr/>
        </p:nvPicPr>
        <p:blipFill>
          <a:blip r:embed="rId2"/>
          <a:stretch/>
        </p:blipFill>
        <p:spPr>
          <a:xfrm>
            <a:off x="-252360" y="0"/>
            <a:ext cx="2044800" cy="1949400"/>
          </a:xfrm>
          <a:prstGeom prst="rect">
            <a:avLst/>
          </a:prstGeom>
          <a:ln w="0">
            <a:noFill/>
          </a:ln>
        </p:spPr>
      </p:pic>
      <p:sp>
        <p:nvSpPr>
          <p:cNvPr id="420" name="矩形 6150"/>
          <p:cNvSpPr/>
          <p:nvPr/>
        </p:nvSpPr>
        <p:spPr>
          <a:xfrm>
            <a:off x="6372360" y="2349360"/>
            <a:ext cx="12952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6152"/>
          <p:cNvSpPr/>
          <p:nvPr/>
        </p:nvSpPr>
        <p:spPr>
          <a:xfrm>
            <a:off x="5364000" y="4149720"/>
            <a:ext cx="100836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6154"/>
          <p:cNvSpPr/>
          <p:nvPr/>
        </p:nvSpPr>
        <p:spPr>
          <a:xfrm>
            <a:off x="1403280" y="2276640"/>
            <a:ext cx="3095640" cy="31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187280" y="2394000"/>
            <a:ext cx="72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想一想，他们在扎风筝和折纸船的时候都在想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图片 9" descr="图片1.png"/>
          <p:cNvPicPr/>
          <p:nvPr/>
        </p:nvPicPr>
        <p:blipFill>
          <a:blip r:embed="rId1"/>
          <a:stretch/>
        </p:blipFill>
        <p:spPr>
          <a:xfrm>
            <a:off x="293760" y="0"/>
            <a:ext cx="954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3" descr="0007019895748471_b.png"/>
          <p:cNvPicPr/>
          <p:nvPr/>
        </p:nvPicPr>
        <p:blipFill>
          <a:blip r:embed="rId2"/>
          <a:stretch/>
        </p:blipFill>
        <p:spPr>
          <a:xfrm flipH="1" rot="353400">
            <a:off x="523440" y="2368440"/>
            <a:ext cx="3276720" cy="21211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"/>
          <p:cNvSpPr/>
          <p:nvPr/>
        </p:nvSpPr>
        <p:spPr>
          <a:xfrm>
            <a:off x="1146240" y="1728000"/>
            <a:ext cx="85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如果你愿意和好，就放一只风筝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"/>
          <p:cNvSpPr/>
          <p:nvPr/>
        </p:nvSpPr>
        <p:spPr>
          <a:xfrm>
            <a:off x="1403280" y="4338000"/>
            <a:ext cx="85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看到这只船，小熊心情会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图片 9" descr="图片1.png"/>
          <p:cNvPicPr/>
          <p:nvPr/>
        </p:nvPicPr>
        <p:blipFill>
          <a:blip r:embed="rId1"/>
          <a:stretch/>
        </p:blipFill>
        <p:spPr>
          <a:xfrm>
            <a:off x="29376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1"/>
          <p:cNvSpPr/>
          <p:nvPr/>
        </p:nvSpPr>
        <p:spPr>
          <a:xfrm>
            <a:off x="1146240" y="2652120"/>
            <a:ext cx="85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过了几天，松鼠再也受不了啦。他在一只折好的纸船上写了一句话：“如果你愿意和好，就放一只风筝吧！”他把这只纸船放进了小溪。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如果你愿意和好，就放一只风筝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图片 9" descr="图片1.png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"/>
          <p:cNvSpPr/>
          <p:nvPr/>
        </p:nvSpPr>
        <p:spPr>
          <a:xfrm>
            <a:off x="-654120" y="201384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楷体"/>
                <a:ea typeface="楷体"/>
              </a:rPr>
              <a:t>小熊会写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图片 7" descr="20100526_75af0aed8e7d75e6baffIsuLgBb4hfqt.jpg"/>
          <p:cNvPicPr/>
          <p:nvPr/>
        </p:nvPicPr>
        <p:blipFill>
          <a:blip r:embed="rId2"/>
          <a:srcRect l="3080" t="13251" r="6075" b="27950"/>
          <a:stretch/>
        </p:blipFill>
        <p:spPr>
          <a:xfrm>
            <a:off x="4114800" y="41400"/>
            <a:ext cx="3456000" cy="327960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4" descr="图片1"/>
          <p:cNvPicPr/>
          <p:nvPr/>
        </p:nvPicPr>
        <p:blipFill>
          <a:blip r:embed="rId3"/>
          <a:stretch/>
        </p:blipFill>
        <p:spPr>
          <a:xfrm>
            <a:off x="-396720" y="4095720"/>
            <a:ext cx="2449440" cy="21556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"/>
          <p:cNvSpPr/>
          <p:nvPr/>
        </p:nvSpPr>
        <p:spPr>
          <a:xfrm>
            <a:off x="2952720" y="3279960"/>
            <a:ext cx="5435640" cy="3385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亲爱的松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对象 2" descr=""/>
          <p:cNvPicPr/>
          <p:nvPr/>
        </p:nvPicPr>
        <p:blipFill>
          <a:blip r:embed="rId4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sp>
        <p:nvSpPr>
          <p:cNvPr id="436" name="直接连接符 3"/>
          <p:cNvSpPr/>
          <p:nvPr/>
        </p:nvSpPr>
        <p:spPr>
          <a:xfrm flipV="1">
            <a:off x="6292800" y="3933360"/>
            <a:ext cx="1879560" cy="50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5"/>
          <p:cNvSpPr/>
          <p:nvPr/>
        </p:nvSpPr>
        <p:spPr>
          <a:xfrm flipV="1">
            <a:off x="2940120" y="4436640"/>
            <a:ext cx="544824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6"/>
          <p:cNvSpPr/>
          <p:nvPr/>
        </p:nvSpPr>
        <p:spPr>
          <a:xfrm flipV="1">
            <a:off x="2940120" y="5098680"/>
            <a:ext cx="544824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7"/>
          <p:cNvSpPr/>
          <p:nvPr/>
        </p:nvSpPr>
        <p:spPr>
          <a:xfrm flipV="1">
            <a:off x="2957400" y="5790960"/>
            <a:ext cx="544824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1981080" y="548640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34800" y="3868560"/>
            <a:ext cx="841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傍晚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松鼠看见一只美丽的风筝向他飞来，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高兴得哭了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他连忙爬上屋顶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把一只只纸船放到了小溪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4" descr="图片1s"/>
          <p:cNvPicPr/>
          <p:nvPr/>
        </p:nvPicPr>
        <p:blipFill>
          <a:blip r:embed="rId1"/>
          <a:stretch/>
        </p:blipFill>
        <p:spPr>
          <a:xfrm>
            <a:off x="395280" y="115920"/>
            <a:ext cx="8172360" cy="374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图片1s"/>
          <p:cNvPicPr/>
          <p:nvPr/>
        </p:nvPicPr>
        <p:blipFill>
          <a:blip r:embed="rId1"/>
          <a:stretch/>
        </p:blipFill>
        <p:spPr>
          <a:xfrm>
            <a:off x="466560" y="117360"/>
            <a:ext cx="8426520" cy="3864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4149720"/>
            <a:ext cx="8244000" cy="132408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松鼠高兴得哭了”说明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5867280" y="189000"/>
            <a:ext cx="27370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喜极而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755640" y="5229360"/>
            <a:ext cx="75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松鼠非常兴奋和激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371600" y="1104840"/>
            <a:ext cx="663264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想对他俩说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图片 3" descr="图片2"/>
          <p:cNvPicPr/>
          <p:nvPr/>
        </p:nvPicPr>
        <p:blipFill>
          <a:blip r:embed="rId1"/>
          <a:stretch/>
        </p:blipFill>
        <p:spPr>
          <a:xfrm>
            <a:off x="4950000" y="2505240"/>
            <a:ext cx="3247920" cy="319716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4" descr="图片1"/>
          <p:cNvPicPr/>
          <p:nvPr/>
        </p:nvPicPr>
        <p:blipFill>
          <a:blip r:embed="rId2"/>
          <a:stretch/>
        </p:blipFill>
        <p:spPr>
          <a:xfrm>
            <a:off x="1371600" y="3314880"/>
            <a:ext cx="24638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文本框 11265"/>
          <p:cNvSpPr/>
          <p:nvPr/>
        </p:nvSpPr>
        <p:spPr>
          <a:xfrm>
            <a:off x="1095480" y="1227240"/>
            <a:ext cx="752472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朗读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准字音，读通句子，至少读两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难读的地方多读几遍，不懂得地方可以和同学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书时注意头正、肩平、腰打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背景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5"/>
          <p:cNvSpPr/>
          <p:nvPr/>
        </p:nvSpPr>
        <p:spPr>
          <a:xfrm>
            <a:off x="628560" y="846000"/>
            <a:ext cx="7993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我们的感情和友谊产生“裂缝” 的时候，赌气只能使“裂缝”扩大，宽容和谅解才是最好的解决办法。敢于率先伸出友谊之手的人，是令人敬佩的！同时，我们应该和朋友、同学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友好相处、团结合作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久石譲 - 月光の雲海.mp3" descr=""/>
          <p:cNvPicPr/>
          <p:nvPr/>
        </p:nvPicPr>
        <p:blipFill>
          <a:blip r:embed="rId2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8" dur="1" fill="hold"/>
                                        <p:tgtEl>
                                          <p:spTgt spid="4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文本框 11265"/>
          <p:cNvSpPr/>
          <p:nvPr/>
        </p:nvSpPr>
        <p:spPr>
          <a:xfrm>
            <a:off x="2122560" y="1039680"/>
            <a:ext cx="5143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文讲了一个什么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组合 10"/>
          <p:cNvGrpSpPr/>
          <p:nvPr/>
        </p:nvGrpSpPr>
        <p:grpSpPr>
          <a:xfrm>
            <a:off x="-14400" y="0"/>
            <a:ext cx="9172800" cy="6858000"/>
            <a:chOff x="-14400" y="0"/>
            <a:chExt cx="9172800" cy="6858000"/>
          </a:xfrm>
        </p:grpSpPr>
        <p:pic>
          <p:nvPicPr>
            <p:cNvPr id="213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14400" y="0"/>
              <a:ext cx="917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图片 3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227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图片 4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8568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图片 6" descr="200842992417999.jpg"/>
            <p:cNvPicPr/>
            <p:nvPr/>
          </p:nvPicPr>
          <p:blipFill>
            <a:blip r:embed="rId4"/>
            <a:stretch/>
          </p:blipFill>
          <p:spPr>
            <a:xfrm>
              <a:off x="559440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图片 7" descr="200842992417999.jpg"/>
            <p:cNvPicPr/>
            <p:nvPr/>
          </p:nvPicPr>
          <p:blipFill>
            <a:blip r:embed="rId5"/>
            <a:stretch/>
          </p:blipFill>
          <p:spPr>
            <a:xfrm>
              <a:off x="372204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图片 9" descr="200842992417999.jpg"/>
            <p:cNvPicPr/>
            <p:nvPr/>
          </p:nvPicPr>
          <p:blipFill>
            <a:blip r:embed="rId6"/>
            <a:stretch/>
          </p:blipFill>
          <p:spPr>
            <a:xfrm>
              <a:off x="321804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TextBox 45"/>
          <p:cNvSpPr/>
          <p:nvPr/>
        </p:nvSpPr>
        <p:spPr>
          <a:xfrm>
            <a:off x="6483600" y="10652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山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5"/>
          <p:cNvSpPr/>
          <p:nvPr/>
        </p:nvSpPr>
        <p:spPr>
          <a:xfrm>
            <a:off x="6954120" y="2232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松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5"/>
          <p:cNvSpPr/>
          <p:nvPr/>
        </p:nvSpPr>
        <p:spPr>
          <a:xfrm>
            <a:off x="3828240" y="48164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山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5"/>
          <p:cNvSpPr/>
          <p:nvPr/>
        </p:nvSpPr>
        <p:spPr>
          <a:xfrm>
            <a:off x="1477440" y="46274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小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5"/>
          <p:cNvSpPr/>
          <p:nvPr/>
        </p:nvSpPr>
        <p:spPr>
          <a:xfrm>
            <a:off x="6084360" y="31575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纸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5"/>
          <p:cNvSpPr/>
          <p:nvPr/>
        </p:nvSpPr>
        <p:spPr>
          <a:xfrm>
            <a:off x="2355120" y="3013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风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5"/>
          <p:cNvSpPr/>
          <p:nvPr/>
        </p:nvSpPr>
        <p:spPr>
          <a:xfrm>
            <a:off x="4011120" y="1895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5"/>
          <p:cNvSpPr/>
          <p:nvPr/>
        </p:nvSpPr>
        <p:spPr>
          <a:xfrm>
            <a:off x="5901120" y="3986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文本框 11265"/>
          <p:cNvSpPr/>
          <p:nvPr/>
        </p:nvSpPr>
        <p:spPr>
          <a:xfrm>
            <a:off x="1168560" y="1488960"/>
            <a:ext cx="590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哇漂，漂到了小熊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1265"/>
          <p:cNvSpPr/>
          <p:nvPr/>
        </p:nvSpPr>
        <p:spPr>
          <a:xfrm>
            <a:off x="1168560" y="2625840"/>
            <a:ext cx="7638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乘着风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哇飘，飘到了松鼠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2"/>
          <p:cNvSpPr/>
          <p:nvPr/>
        </p:nvSpPr>
        <p:spPr>
          <a:xfrm>
            <a:off x="3207600" y="4140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3"/>
          <p:cNvSpPr/>
          <p:nvPr/>
        </p:nvSpPr>
        <p:spPr>
          <a:xfrm>
            <a:off x="4781520" y="4067280"/>
            <a:ext cx="41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11265"/>
          <p:cNvSpPr/>
          <p:nvPr/>
        </p:nvSpPr>
        <p:spPr>
          <a:xfrm>
            <a:off x="880920" y="914400"/>
            <a:ext cx="590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哇漂，漂到了小熊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1265"/>
          <p:cNvSpPr/>
          <p:nvPr/>
        </p:nvSpPr>
        <p:spPr>
          <a:xfrm>
            <a:off x="922320" y="2644920"/>
            <a:ext cx="7640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乘着风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哇飘，飘到了松鼠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1265"/>
          <p:cNvSpPr/>
          <p:nvPr/>
        </p:nvSpPr>
        <p:spPr>
          <a:xfrm>
            <a:off x="879480" y="1620720"/>
            <a:ext cx="590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了小熊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1265"/>
          <p:cNvSpPr/>
          <p:nvPr/>
        </p:nvSpPr>
        <p:spPr>
          <a:xfrm>
            <a:off x="922320" y="3351240"/>
            <a:ext cx="7640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了松鼠家门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文本框 11265" descr=""/>
          <p:cNvPicPr/>
          <p:nvPr/>
        </p:nvPicPr>
        <p:blipFill>
          <a:blip r:embed="rId1"/>
          <a:stretch/>
        </p:blipFill>
        <p:spPr>
          <a:xfrm>
            <a:off x="922320" y="4343400"/>
            <a:ext cx="7640640" cy="708120"/>
          </a:xfrm>
          <a:prstGeom prst="rect">
            <a:avLst/>
          </a:prstGeom>
          <a:ln w="0">
            <a:noFill/>
          </a:ln>
        </p:spPr>
      </p:pic>
      <p:pic>
        <p:nvPicPr>
          <p:cNvPr id="236" name="文本框 11265" descr=""/>
          <p:cNvPicPr/>
          <p:nvPr/>
        </p:nvPicPr>
        <p:blipFill>
          <a:blip r:embed="rId2"/>
          <a:stretch/>
        </p:blipFill>
        <p:spPr>
          <a:xfrm>
            <a:off x="966960" y="5138640"/>
            <a:ext cx="7640640" cy="706680"/>
          </a:xfrm>
          <a:prstGeom prst="rect">
            <a:avLst/>
          </a:prstGeom>
          <a:ln w="0">
            <a:noFill/>
          </a:ln>
        </p:spPr>
      </p:pic>
      <p:pic>
        <p:nvPicPr>
          <p:cNvPr id="237" name="文本框 11265" descr=""/>
          <p:cNvPicPr/>
          <p:nvPr/>
        </p:nvPicPr>
        <p:blipFill>
          <a:blip r:embed="rId3"/>
          <a:stretch/>
        </p:blipFill>
        <p:spPr>
          <a:xfrm>
            <a:off x="3701880" y="-104760"/>
            <a:ext cx="20829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组合 5"/>
          <p:cNvGrpSpPr/>
          <p:nvPr/>
        </p:nvGrpSpPr>
        <p:grpSpPr>
          <a:xfrm>
            <a:off x="-28440" y="0"/>
            <a:ext cx="9172440" cy="6858000"/>
            <a:chOff x="-28440" y="0"/>
            <a:chExt cx="9172440" cy="6858000"/>
          </a:xfrm>
        </p:grpSpPr>
        <p:pic>
          <p:nvPicPr>
            <p:cNvPr id="239" name="Picture 2" descr="图片1"/>
            <p:cNvPicPr/>
            <p:nvPr/>
          </p:nvPicPr>
          <p:blipFill>
            <a:blip r:embed="rId1"/>
            <a:stretch/>
          </p:blipFill>
          <p:spPr>
            <a:xfrm>
              <a:off x="-28440" y="0"/>
              <a:ext cx="91724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图片 7" descr="6400131_164056595000_2.jpg"/>
            <p:cNvPicPr/>
            <p:nvPr/>
          </p:nvPicPr>
          <p:blipFill>
            <a:blip r:embed="rId2"/>
            <a:srcRect l="0" t="34257" r="60199" b="33210"/>
            <a:stretch/>
          </p:blipFill>
          <p:spPr>
            <a:xfrm>
              <a:off x="730836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图片 8" descr="6400131_164056595000_2.jpg"/>
            <p:cNvPicPr/>
            <p:nvPr/>
          </p:nvPicPr>
          <p:blipFill>
            <a:blip r:embed="rId3"/>
            <a:srcRect l="0" t="34257" r="60199" b="33210"/>
            <a:stretch/>
          </p:blipFill>
          <p:spPr>
            <a:xfrm>
              <a:off x="971640" y="6287040"/>
              <a:ext cx="792000" cy="5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图片 9" descr="200842992417999.jpg"/>
            <p:cNvPicPr/>
            <p:nvPr/>
          </p:nvPicPr>
          <p:blipFill>
            <a:blip r:embed="rId4"/>
            <a:stretch/>
          </p:blipFill>
          <p:spPr>
            <a:xfrm>
              <a:off x="5580360" y="6237360"/>
              <a:ext cx="480240" cy="3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图片 10" descr="200842992417999.jpg"/>
            <p:cNvPicPr/>
            <p:nvPr/>
          </p:nvPicPr>
          <p:blipFill>
            <a:blip r:embed="rId5"/>
            <a:stretch/>
          </p:blipFill>
          <p:spPr>
            <a:xfrm>
              <a:off x="3708000" y="5949360"/>
              <a:ext cx="36576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图片 11" descr="200842992417999.jpg"/>
            <p:cNvPicPr/>
            <p:nvPr/>
          </p:nvPicPr>
          <p:blipFill>
            <a:blip r:embed="rId6"/>
            <a:stretch/>
          </p:blipFill>
          <p:spPr>
            <a:xfrm>
              <a:off x="3204000" y="6381360"/>
              <a:ext cx="297360" cy="23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图片 14" descr="55b1OOOPIC7c.jpg"/>
          <p:cNvPicPr/>
          <p:nvPr/>
        </p:nvPicPr>
        <p:blipFill>
          <a:blip r:embed="rId7"/>
          <a:stretch/>
        </p:blipFill>
        <p:spPr>
          <a:xfrm>
            <a:off x="900000" y="4869000"/>
            <a:ext cx="2232000" cy="183348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17" descr="10-140424144425250.jpg"/>
          <p:cNvPicPr/>
          <p:nvPr/>
        </p:nvPicPr>
        <p:blipFill>
          <a:blip r:embed="rId8"/>
          <a:stretch/>
        </p:blipFill>
        <p:spPr>
          <a:xfrm>
            <a:off x="6443640" y="1585800"/>
            <a:ext cx="1368360" cy="1185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未标题-1 拷贝"/>
          <p:cNvPicPr/>
          <p:nvPr/>
        </p:nvPicPr>
        <p:blipFill>
          <a:blip r:embed="rId9"/>
          <a:stretch/>
        </p:blipFill>
        <p:spPr>
          <a:xfrm rot="1774200">
            <a:off x="250560" y="3499920"/>
            <a:ext cx="1438200" cy="1398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5751360" y="5611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漂哇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5219640" y="333360"/>
            <a:ext cx="23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飘哇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1111gif"/>
          <p:cNvPicPr/>
          <p:nvPr/>
        </p:nvPicPr>
        <p:blipFill>
          <a:blip r:embed="rId10"/>
          <a:stretch/>
        </p:blipFill>
        <p:spPr>
          <a:xfrm rot="20579400">
            <a:off x="6621120" y="3022200"/>
            <a:ext cx="12240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33858E-006 C -0.00156 0.00162 -0.0033 0.00324 -0.00486 0.00486 C -0.00573 0.00601 -0.00642 0.0074 -0.00746 0.00833 C -0.00972 0.01064 -0.01475 0.0148 -0.01475 0.0148 C -0.02066 0.0259 -0.02725 0.03515 -0.03576 0.04278 C -0.03715 0.04579 -0.03941 0.04787 -0.0408 0.05088 C -0.04149 0.0525 -0.04114 0.05481 -0.04201 0.05597 C -0.04409 0.05874 -0.0493 0.06244 -0.0493 0.06244 C -0.05104 0.06869 -0.05625 0.07516 -0.06041 0.07886 C -0.06493 0.08788 -0.06805 0.09759 -0.07413 0.10523 C -0.07639 0.11425 -0.07656 0.11795 -0.08264 0.12327 C -0.08455 0.12997 -0.0868 0.13275 -0.0901 0.13807 C -0.09288 0.14269 -0.09305 0.14709 -0.09635 0.15125 C -0.09826 0.15934 -0.10434 0.17414 -0.10989 0.17923 C -0.11145 0.18224 -0.1118 0.18617 -0.11354 0.18918 C -0.11875 0.19796 -0.12621 0.20583 -0.13211 0.21369 C -0.13923 0.22317 -0.14253 0.23728 -0.1493 0.24676 C -0.15069 0.25162 -0.15243 0.25717 -0.15434 0.26156 C -0.15573 0.26503 -0.1592 0.27128 -0.1592 0.27128 C -0.1625 0.28492 -0.15798 0.26873 -0.16302 0.2796 C -0.16684 0.28793 -0.16875 0.29718 -0.17413 0.30435 C -0.17621 0.3129 -0.1802 0.321 -0.18524 0.32724 C -0.18854 0.34066 -0.18385 0.32424 -0.18889 0.33557 C -0.19166 0.34181 -0.19392 0.34968 -0.19757 0.35523 C -0.19895 0.35731 -0.20086 0.35823 -0.20243 0.36008 C -0.2092 0.36795 -0.21458 0.37812 -0.22222 0.38483 C -0.23055 0.392 -0.23836 0.39732 -0.24687 0.40287 C -0.26128 0.41235 -0.27257 0.42831 -0.28524 0.4408 C -0.29218 0.44773 -0.29913 0.45282 -0.30625 0.45883 C -0.30573 0.45722 -0.30486 0.45398 -0.30486 0.45398 E">
                                      <p:cBhvr>
                                        <p:cTn id="136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-0.0703 C 0.08125 -0.10199 0.09184 -0.13298 0.11215 -0.142 C 0.13229 -0.15055 0.17083 -0.11216 0.19218 -0.1228 C 0.21406 -0.13298 0.22222 -0.1783 0.24149 -0.2049 C 0.26093 -0.23219 0.28541 -0.27359 0.30885 -0.28399 C 0.33264 -0.29463 0.36128 -0.26202 0.3842 -0.2685 C 0.40694 -0.27521 0.4309 -0.29926 0.44652 -0.32262 C 0.46215 -0.34574 0.46059 -0.38853 0.47743 -0.40865 C 0.49444 -0.42877 0.52847 -0.43039 0.54739 -0.44311 C 0.56632 -0.45629 0.57257 -0.47571 0.59149 -0.48543 C 0.61041 -0.49514 0.6401 -0.50023 0.66145 -0.50023 C 0.68316 -0.50023 0.7026 -0.48566 0.721 -0.48543 C 0.73941 -0.4852 0.76319 -0.49607 0.77187 -0.49884 E">
                                      <p:cBhvr>
                                        <p:cTn id="144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文本框 1"/>
          <p:cNvSpPr/>
          <p:nvPr/>
        </p:nvSpPr>
        <p:spPr>
          <a:xfrm>
            <a:off x="5654520" y="343080"/>
            <a:ext cx="29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熊拿起纸船一看，乐坏了。纸船里放着一个小松果，松果上挂着一张纸条，上面写着：“祝你快乐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"/>
          <p:cNvSpPr/>
          <p:nvPr/>
        </p:nvSpPr>
        <p:spPr>
          <a:xfrm>
            <a:off x="5553000" y="364176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松鼠一把抓住风筝的线一看，也乐坏了。风筝上挂着一个草莓，风筝的翅膀上写着：“祝你幸福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2" descr="200721152412734.jpg"/>
          <p:cNvPicPr/>
          <p:nvPr/>
        </p:nvPicPr>
        <p:blipFill>
          <a:blip r:embed="rId1"/>
          <a:stretch/>
        </p:blipFill>
        <p:spPr>
          <a:xfrm>
            <a:off x="324000" y="57240"/>
            <a:ext cx="5101920" cy="259236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1" descr="577a3318b0ba0.jpg"/>
          <p:cNvPicPr/>
          <p:nvPr/>
        </p:nvPicPr>
        <p:blipFill>
          <a:blip r:embed="rId2"/>
          <a:stretch/>
        </p:blipFill>
        <p:spPr>
          <a:xfrm>
            <a:off x="324000" y="3333600"/>
            <a:ext cx="5040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08:16:36Z</dcterms:created>
  <dc:creator>lgh</dc:creator>
  <dc:description/>
  <dc:language>en-US</dc:language>
  <cp:lastModifiedBy>子非</cp:lastModifiedBy>
  <dcterms:modified xsi:type="dcterms:W3CDTF">2018-12-03T13:33:11Z</dcterms:modified>
  <cp:revision>10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7989</vt:lpwstr>
  </property>
</Properties>
</file>