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camera.wav" ContentType="audio/x-wav"/>
  <Override PartName="/ppt/media/image22.png" ContentType="image/png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7.png" ContentType="image/png"/>
  <Override PartName="/ppt/media/chimes.wav" ContentType="audio/x-wav"/>
  <Override PartName="/ppt/media/image16.png" ContentType="image/png"/>
  <Override PartName="/ppt/media/image8.png" ContentType="image/png"/>
  <Override PartName="/ppt/media/image5.jpeg" ContentType="image/jpeg"/>
  <Override PartName="/ppt/media/image4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13.png" ContentType="image/png"/>
  <Override PartName="/ppt/media/image12.png" ContentType="image/png"/>
  <Override PartName="/ppt/media/image2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9F37-7992-4733-9547-3D8890F5E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53DB-D0C2-4707-96CC-43F325E0B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2B3F-5987-48AE-BC34-C3983089A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9733-F3FC-462B-A5C2-D781D8535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02E1-76D6-46C9-B908-712702FC8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93E2-63F0-481D-B75E-4C43E7282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E6A2-068E-46A1-95E8-53CC0F362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9272-E0A4-4E21-AB5B-7201F555C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8B1B-768B-46D6-97B1-BAF906649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F26F-AEBC-420B-B6BA-5E3BA8221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A9AA-6E51-4876-92EB-61F82A370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7121-D71D-4579-A5D0-59E6A78AE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21237" t="11485" r="72519" b="69138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21237" t="11485" r="72519" b="69138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21237" t="11485" r="57015" b="69138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9" name="图片 15" descr="封面.png"/>
          <p:cNvPicPr/>
          <p:nvPr/>
        </p:nvPicPr>
        <p:blipFill>
          <a:blip r:embed="rId2"/>
          <a:stretch/>
        </p:blipFill>
        <p:spPr>
          <a:xfrm>
            <a:off x="-142920" y="0"/>
            <a:ext cx="2928960" cy="2313000"/>
          </a:xfrm>
          <a:prstGeom prst="rect">
            <a:avLst/>
          </a:prstGeom>
          <a:ln w="0">
            <a:noFill/>
          </a:ln>
        </p:spPr>
      </p:pic>
      <p:sp>
        <p:nvSpPr>
          <p:cNvPr id="660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6" name="Picture 14" descr="未命名3"/>
          <p:cNvPicPr/>
          <p:nvPr/>
        </p:nvPicPr>
        <p:blipFill>
          <a:blip r:embed="rId3"/>
          <a:srcRect l="2509" t="0" r="1714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7" name="Picture 15" descr="未命名3"/>
          <p:cNvPicPr/>
          <p:nvPr/>
        </p:nvPicPr>
        <p:blipFill>
          <a:blip r:embed="rId4"/>
          <a:srcRect l="1639" t="0" r="0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B2CCC-CAB5-4B52-862A-E8392DDCF1E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21237" t="11485" r="72519" b="69138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21237" t="11485" r="72519" b="69138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21237" t="11485" r="57015" b="69138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15591" r="77841" b="63414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21237" t="11485" r="72519" b="69138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21237" t="11485" r="72519" b="69138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21237" t="11485" r="57015" b="69138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15591" r="77841" b="63414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21237" t="11485" r="72519" b="69138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21237" t="11485" r="72519" b="69138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21237" t="11485" r="57015" b="69138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15591" r="77841" b="63414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21237" t="11485" r="72519" b="69138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21237" t="11485" r="72519" b="69138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21237" t="11485" r="57015" b="69138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15591" r="77841" b="63414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17423" t="9464" r="8930" b="64226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46391" t="11485" r="29810" b="44262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15591" r="77841" b="63414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17423" t="9464" r="8930" b="64226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15591" r="77841" b="63414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21237" t="11485" r="57015" b="69138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46391" t="11485" r="29810" b="44262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9.png"/><Relationship Id="rId14" Type="http://schemas.openxmlformats.org/officeDocument/2006/relationships/image" Target="../media/image10.png"/><Relationship Id="rId15" Type="http://schemas.openxmlformats.org/officeDocument/2006/relationships/image" Target="../media/image11.png"/><Relationship Id="rId16" Type="http://schemas.openxmlformats.org/officeDocument/2006/relationships/audio" Target="../media/chimes.wav"/><Relationship Id="rId17" Type="http://schemas.openxmlformats.org/officeDocument/2006/relationships/audio" Target="../media/chimes.wav"/><Relationship Id="rId18" Type="http://schemas.openxmlformats.org/officeDocument/2006/relationships/audio" Target="../media/chimes.wav"/><Relationship Id="rId19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9.png"/><Relationship Id="rId14" Type="http://schemas.openxmlformats.org/officeDocument/2006/relationships/image" Target="../media/image10.png"/><Relationship Id="rId15" Type="http://schemas.openxmlformats.org/officeDocument/2006/relationships/image" Target="../media/image11.png"/><Relationship Id="rId16" Type="http://schemas.openxmlformats.org/officeDocument/2006/relationships/audio" Target="../media/camera.wav"/><Relationship Id="rId17" Type="http://schemas.openxmlformats.org/officeDocument/2006/relationships/audio" Target="../media/camera.wav"/><Relationship Id="rId18" Type="http://schemas.openxmlformats.org/officeDocument/2006/relationships/audio" Target="../media/camera.wav"/><Relationship Id="rId19" Type="http://schemas.openxmlformats.org/officeDocument/2006/relationships/audio" Target="../media/chimes.wav"/><Relationship Id="rId20" Type="http://schemas.openxmlformats.org/officeDocument/2006/relationships/audio" Target="../media/chimes.wav"/><Relationship Id="rId21" Type="http://schemas.openxmlformats.org/officeDocument/2006/relationships/audio" Target="../media/chimes.wav"/><Relationship Id="rId22" Type="http://schemas.openxmlformats.org/officeDocument/2006/relationships/audio" Target="../media/chimes.wav"/><Relationship Id="rId23" Type="http://schemas.openxmlformats.org/officeDocument/2006/relationships/audio" Target="../media/chimes.wav"/><Relationship Id="rId24" Type="http://schemas.openxmlformats.org/officeDocument/2006/relationships/audio" Target="../media/chimes.wav"/><Relationship Id="rId25" Type="http://schemas.openxmlformats.org/officeDocument/2006/relationships/audio" Target="../media/chimes.wav"/><Relationship Id="rId26" Type="http://schemas.openxmlformats.org/officeDocument/2006/relationships/audio" Target="../media/chimes.wav"/><Relationship Id="rId27" Type="http://schemas.openxmlformats.org/officeDocument/2006/relationships/audio" Target="../media/chimes.wav"/><Relationship Id="rId28" Type="http://schemas.openxmlformats.org/officeDocument/2006/relationships/audio" Target="../media/chimes.wav"/><Relationship Id="rId29" Type="http://schemas.openxmlformats.org/officeDocument/2006/relationships/audio" Target="../media/chimes.wav"/><Relationship Id="rId30" Type="http://schemas.openxmlformats.org/officeDocument/2006/relationships/audio" Target="../media/chimes.wav"/><Relationship Id="rId3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8.png"/><Relationship Id="rId15" Type="http://schemas.openxmlformats.org/officeDocument/2006/relationships/image" Target="../media/image8.png"/><Relationship Id="rId16" Type="http://schemas.openxmlformats.org/officeDocument/2006/relationships/audio" Target="../media/chimes.wav"/><Relationship Id="rId17" Type="http://schemas.openxmlformats.org/officeDocument/2006/relationships/audio" Target="../media/chimes.wav"/><Relationship Id="rId18" Type="http://schemas.openxmlformats.org/officeDocument/2006/relationships/audio" Target="../media/chimes.wav"/><Relationship Id="rId19" Type="http://schemas.openxmlformats.org/officeDocument/2006/relationships/audio" Target="../media/chimes.wav"/><Relationship Id="rId20" Type="http://schemas.openxmlformats.org/officeDocument/2006/relationships/audio" Target="../media/chimes.wav"/><Relationship Id="rId21" Type="http://schemas.openxmlformats.org/officeDocument/2006/relationships/audio" Target="../media/chimes.wav"/><Relationship Id="rId22" Type="http://schemas.openxmlformats.org/officeDocument/2006/relationships/audio" Target="../media/chimes.wav"/><Relationship Id="rId23" Type="http://schemas.openxmlformats.org/officeDocument/2006/relationships/audio" Target="../media/chimes.wav"/><Relationship Id="rId24" Type="http://schemas.openxmlformats.org/officeDocument/2006/relationships/audio" Target="../media/chimes.wav"/><Relationship Id="rId25" Type="http://schemas.openxmlformats.org/officeDocument/2006/relationships/audio" Target="../media/chimes.wav"/><Relationship Id="rId26" Type="http://schemas.openxmlformats.org/officeDocument/2006/relationships/audio" Target="../media/chimes.wav"/><Relationship Id="rId27" Type="http://schemas.openxmlformats.org/officeDocument/2006/relationships/audio" Target="../media/chimes.wav"/><Relationship Id="rId28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8.png"/><Relationship Id="rId15" Type="http://schemas.openxmlformats.org/officeDocument/2006/relationships/image" Target="../media/image8.png"/><Relationship Id="rId16" Type="http://schemas.openxmlformats.org/officeDocument/2006/relationships/image" Target="../media/image8.png"/><Relationship Id="rId17" Type="http://schemas.openxmlformats.org/officeDocument/2006/relationships/image" Target="../media/image8.png"/><Relationship Id="rId18" Type="http://schemas.openxmlformats.org/officeDocument/2006/relationships/image" Target="../media/image8.png"/><Relationship Id="rId19" Type="http://schemas.openxmlformats.org/officeDocument/2006/relationships/image" Target="../media/image8.png"/><Relationship Id="rId20" Type="http://schemas.openxmlformats.org/officeDocument/2006/relationships/image" Target="../media/image8.png"/><Relationship Id="rId21" Type="http://schemas.openxmlformats.org/officeDocument/2006/relationships/image" Target="../media/image8.png"/><Relationship Id="rId22" Type="http://schemas.openxmlformats.org/officeDocument/2006/relationships/image" Target="../media/image8.png"/><Relationship Id="rId23" Type="http://schemas.openxmlformats.org/officeDocument/2006/relationships/image" Target="../media/image8.png"/><Relationship Id="rId24" Type="http://schemas.openxmlformats.org/officeDocument/2006/relationships/image" Target="../media/image8.png"/><Relationship Id="rId25" Type="http://schemas.openxmlformats.org/officeDocument/2006/relationships/image" Target="../media/image12.png"/><Relationship Id="rId26" Type="http://schemas.openxmlformats.org/officeDocument/2006/relationships/image" Target="../media/image13.png"/><Relationship Id="rId27" Type="http://schemas.openxmlformats.org/officeDocument/2006/relationships/image" Target="../media/image13.png"/><Relationship Id="rId28" Type="http://schemas.openxmlformats.org/officeDocument/2006/relationships/image" Target="../media/image13.png"/><Relationship Id="rId29" Type="http://schemas.openxmlformats.org/officeDocument/2006/relationships/image" Target="../media/image13.png"/><Relationship Id="rId30" Type="http://schemas.openxmlformats.org/officeDocument/2006/relationships/image" Target="../media/image12.png"/><Relationship Id="rId31" Type="http://schemas.openxmlformats.org/officeDocument/2006/relationships/image" Target="../media/image13.png"/><Relationship Id="rId32" Type="http://schemas.openxmlformats.org/officeDocument/2006/relationships/image" Target="../media/image13.png"/><Relationship Id="rId33" Type="http://schemas.openxmlformats.org/officeDocument/2006/relationships/image" Target="../media/image13.png"/><Relationship Id="rId34" Type="http://schemas.openxmlformats.org/officeDocument/2006/relationships/image" Target="../media/image13.png"/><Relationship Id="rId35" Type="http://schemas.openxmlformats.org/officeDocument/2006/relationships/image" Target="../media/image12.png"/><Relationship Id="rId36" Type="http://schemas.openxmlformats.org/officeDocument/2006/relationships/image" Target="../media/image13.png"/><Relationship Id="rId37" Type="http://schemas.openxmlformats.org/officeDocument/2006/relationships/image" Target="../media/image13.png"/><Relationship Id="rId38" Type="http://schemas.openxmlformats.org/officeDocument/2006/relationships/image" Target="../media/image13.png"/><Relationship Id="rId39" Type="http://schemas.openxmlformats.org/officeDocument/2006/relationships/image" Target="../media/image13.png"/><Relationship Id="rId40" Type="http://schemas.openxmlformats.org/officeDocument/2006/relationships/image" Target="../media/image14.png"/><Relationship Id="rId41" Type="http://schemas.openxmlformats.org/officeDocument/2006/relationships/audio" Target="../media/chimes.wav"/><Relationship Id="rId42" Type="http://schemas.openxmlformats.org/officeDocument/2006/relationships/audio" Target="../media/chimes.wav"/><Relationship Id="rId43" Type="http://schemas.openxmlformats.org/officeDocument/2006/relationships/audio" Target="../media/chimes.wav"/><Relationship Id="rId44" Type="http://schemas.openxmlformats.org/officeDocument/2006/relationships/audio" Target="../media/chimes.wav"/><Relationship Id="rId45" Type="http://schemas.openxmlformats.org/officeDocument/2006/relationships/audio" Target="../media/camera.wav"/><Relationship Id="rId46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7.png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7" name="Picture 16" descr=""/>
          <p:cNvPicPr/>
          <p:nvPr/>
        </p:nvPicPr>
        <p:blipFill>
          <a:blip r:embed="rId1"/>
          <a:stretch/>
        </p:blipFill>
        <p:spPr>
          <a:xfrm>
            <a:off x="2190600" y="1928880"/>
            <a:ext cx="4443480" cy="2128680"/>
          </a:xfrm>
          <a:prstGeom prst="rect">
            <a:avLst/>
          </a:prstGeom>
          <a:ln w="0">
            <a:noFill/>
          </a:ln>
        </p:spPr>
      </p:pic>
      <p:sp>
        <p:nvSpPr>
          <p:cNvPr id="708" name="Text Box 4"/>
          <p:cNvSpPr/>
          <p:nvPr/>
        </p:nvSpPr>
        <p:spPr>
          <a:xfrm>
            <a:off x="2236680" y="500040"/>
            <a:ext cx="690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二年级上册 第七单元 分一分与除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文本框 1"/>
          <p:cNvSpPr/>
          <p:nvPr/>
        </p:nvSpPr>
        <p:spPr>
          <a:xfrm>
            <a:off x="2190600" y="4648320"/>
            <a:ext cx="5359680" cy="58140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棠外附小                </a:t>
            </a: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张应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2" name="Picture 2" descr="10"/>
          <p:cNvPicPr/>
          <p:nvPr/>
        </p:nvPicPr>
        <p:blipFill>
          <a:blip r:embed="rId1"/>
          <a:stretch/>
        </p:blipFill>
        <p:spPr>
          <a:xfrm>
            <a:off x="857160" y="932040"/>
            <a:ext cx="1594080" cy="782640"/>
          </a:xfrm>
          <a:prstGeom prst="rect">
            <a:avLst/>
          </a:prstGeom>
          <a:ln w="0">
            <a:noFill/>
          </a:ln>
        </p:spPr>
      </p:pic>
      <p:pic>
        <p:nvPicPr>
          <p:cNvPr id="863" name="图片 4" descr="12.png"/>
          <p:cNvPicPr/>
          <p:nvPr/>
        </p:nvPicPr>
        <p:blipFill>
          <a:blip r:embed="rId2"/>
          <a:stretch/>
        </p:blipFill>
        <p:spPr>
          <a:xfrm>
            <a:off x="714240" y="1785960"/>
            <a:ext cx="4918320" cy="684360"/>
          </a:xfrm>
          <a:prstGeom prst="rect">
            <a:avLst/>
          </a:prstGeom>
          <a:ln w="0">
            <a:noFill/>
          </a:ln>
        </p:spPr>
      </p:pic>
      <p:pic>
        <p:nvPicPr>
          <p:cNvPr id="864" name="图片 8" descr="17.png"/>
          <p:cNvPicPr/>
          <p:nvPr/>
        </p:nvPicPr>
        <p:blipFill>
          <a:blip r:embed="rId3"/>
          <a:stretch/>
        </p:blipFill>
        <p:spPr>
          <a:xfrm>
            <a:off x="1428840" y="2470320"/>
            <a:ext cx="6738840" cy="1957320"/>
          </a:xfrm>
          <a:prstGeom prst="rect">
            <a:avLst/>
          </a:prstGeom>
          <a:ln w="0">
            <a:noFill/>
          </a:ln>
        </p:spPr>
      </p:pic>
      <p:sp>
        <p:nvSpPr>
          <p:cNvPr id="865" name="TextBox 4"/>
          <p:cNvSpPr/>
          <p:nvPr/>
        </p:nvSpPr>
        <p:spPr>
          <a:xfrm>
            <a:off x="3635280" y="692280"/>
            <a:ext cx="33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动动脑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TextBox 6"/>
          <p:cNvSpPr/>
          <p:nvPr/>
        </p:nvSpPr>
        <p:spPr>
          <a:xfrm>
            <a:off x="8167680" y="1714680"/>
            <a:ext cx="5716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一共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人还可平怎么均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10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7" name="图片 8" descr="17.png"/>
          <p:cNvPicPr/>
          <p:nvPr/>
        </p:nvPicPr>
        <p:blipFill>
          <a:blip r:embed="rId1"/>
          <a:stretch/>
        </p:blipFill>
        <p:spPr>
          <a:xfrm>
            <a:off x="1428840" y="2006640"/>
            <a:ext cx="6738840" cy="1957320"/>
          </a:xfrm>
          <a:prstGeom prst="rect">
            <a:avLst/>
          </a:prstGeom>
          <a:ln w="0">
            <a:noFill/>
          </a:ln>
        </p:spPr>
      </p:pic>
      <p:sp>
        <p:nvSpPr>
          <p:cNvPr id="868" name="TextBox 5"/>
          <p:cNvSpPr/>
          <p:nvPr/>
        </p:nvSpPr>
        <p:spPr>
          <a:xfrm>
            <a:off x="1857240" y="3963960"/>
            <a:ext cx="5143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每排（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人，可以站成（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排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TextBox 11"/>
          <p:cNvSpPr/>
          <p:nvPr/>
        </p:nvSpPr>
        <p:spPr>
          <a:xfrm>
            <a:off x="1857240" y="4303800"/>
            <a:ext cx="5143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每排（        ）人，可以站成（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）排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TextBox 12"/>
          <p:cNvSpPr/>
          <p:nvPr/>
        </p:nvSpPr>
        <p:spPr>
          <a:xfrm>
            <a:off x="1857240" y="4641840"/>
            <a:ext cx="5143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每排（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）人，可以站成（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）排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TextBox 13"/>
          <p:cNvSpPr/>
          <p:nvPr/>
        </p:nvSpPr>
        <p:spPr>
          <a:xfrm>
            <a:off x="1857240" y="4979880"/>
            <a:ext cx="5143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每排（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人，可以站成（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）排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TextBox 14"/>
          <p:cNvSpPr/>
          <p:nvPr/>
        </p:nvSpPr>
        <p:spPr>
          <a:xfrm>
            <a:off x="1857240" y="5319720"/>
            <a:ext cx="5143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每排（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）人，可以站成（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）排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TextBox 15"/>
          <p:cNvSpPr/>
          <p:nvPr/>
        </p:nvSpPr>
        <p:spPr>
          <a:xfrm>
            <a:off x="1857240" y="5657760"/>
            <a:ext cx="5143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每排（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）人，可以站成（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）排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TextBox 17"/>
          <p:cNvSpPr/>
          <p:nvPr/>
        </p:nvSpPr>
        <p:spPr>
          <a:xfrm>
            <a:off x="2860200" y="4303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TextBox 18"/>
          <p:cNvSpPr/>
          <p:nvPr/>
        </p:nvSpPr>
        <p:spPr>
          <a:xfrm>
            <a:off x="5500800" y="4303800"/>
            <a:ext cx="27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TextBox 19"/>
          <p:cNvSpPr/>
          <p:nvPr/>
        </p:nvSpPr>
        <p:spPr>
          <a:xfrm>
            <a:off x="2857680" y="4641840"/>
            <a:ext cx="35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TextBox 20"/>
          <p:cNvSpPr/>
          <p:nvPr/>
        </p:nvSpPr>
        <p:spPr>
          <a:xfrm>
            <a:off x="5500800" y="4641840"/>
            <a:ext cx="27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TextBox 21"/>
          <p:cNvSpPr/>
          <p:nvPr/>
        </p:nvSpPr>
        <p:spPr>
          <a:xfrm>
            <a:off x="2857680" y="4979880"/>
            <a:ext cx="35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TextBox 22"/>
          <p:cNvSpPr/>
          <p:nvPr/>
        </p:nvSpPr>
        <p:spPr>
          <a:xfrm>
            <a:off x="5500800" y="4979880"/>
            <a:ext cx="27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TextBox 23"/>
          <p:cNvSpPr/>
          <p:nvPr/>
        </p:nvSpPr>
        <p:spPr>
          <a:xfrm>
            <a:off x="2860200" y="5319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TextBox 24"/>
          <p:cNvSpPr/>
          <p:nvPr/>
        </p:nvSpPr>
        <p:spPr>
          <a:xfrm>
            <a:off x="5500800" y="5319720"/>
            <a:ext cx="27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TextBox 25"/>
          <p:cNvSpPr/>
          <p:nvPr/>
        </p:nvSpPr>
        <p:spPr>
          <a:xfrm>
            <a:off x="2857680" y="5657760"/>
            <a:ext cx="35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TextBox 26"/>
          <p:cNvSpPr/>
          <p:nvPr/>
        </p:nvSpPr>
        <p:spPr>
          <a:xfrm>
            <a:off x="5489640" y="5657760"/>
            <a:ext cx="57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8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8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6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887" name="Picture 5" descr="header_bg"/>
            <p:cNvPicPr/>
            <p:nvPr/>
          </p:nvPicPr>
          <p:blipFill>
            <a:blip r:embed="rId1"/>
            <a:srcRect l="21237" t="11485" r="57015" b="69138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8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Oval 8"/>
            <p:cNvSpPr/>
            <p:nvPr/>
          </p:nvSpPr>
          <p:spPr>
            <a:xfrm rot="2460000">
              <a:off x="985320" y="94968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1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2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93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5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906" name="Picture 24" descr="header_bg"/>
            <p:cNvPicPr/>
            <p:nvPr/>
          </p:nvPicPr>
          <p:blipFill>
            <a:blip r:embed="rId2"/>
            <a:srcRect l="46391" t="11485" r="29810" b="44262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7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0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1" name="Text Box 29" descr=""/>
          <p:cNvPicPr/>
          <p:nvPr/>
        </p:nvPicPr>
        <p:blipFill>
          <a:blip r:embed="rId3"/>
          <a:stretch/>
        </p:blipFill>
        <p:spPr>
          <a:xfrm>
            <a:off x="249120" y="2030400"/>
            <a:ext cx="777888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10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0" name="组合 30"/>
          <p:cNvGrpSpPr/>
          <p:nvPr/>
        </p:nvGrpSpPr>
        <p:grpSpPr>
          <a:xfrm>
            <a:off x="1897200" y="285840"/>
            <a:ext cx="5246640" cy="3143160"/>
            <a:chOff x="1897200" y="285840"/>
            <a:chExt cx="5246640" cy="3143160"/>
          </a:xfrm>
        </p:grpSpPr>
        <p:pic>
          <p:nvPicPr>
            <p:cNvPr id="711" name="图片 18" descr="2.png"/>
            <p:cNvPicPr/>
            <p:nvPr/>
          </p:nvPicPr>
          <p:blipFill>
            <a:blip r:embed="rId1"/>
            <a:stretch/>
          </p:blipFill>
          <p:spPr>
            <a:xfrm>
              <a:off x="1897200" y="1415880"/>
              <a:ext cx="866520" cy="97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2" name="图片 8" descr="2.png"/>
            <p:cNvPicPr/>
            <p:nvPr/>
          </p:nvPicPr>
          <p:blipFill>
            <a:blip r:embed="rId2"/>
            <a:stretch/>
          </p:blipFill>
          <p:spPr>
            <a:xfrm>
              <a:off x="3591000" y="442800"/>
              <a:ext cx="868320" cy="97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3" name="图片 3" descr="2.png"/>
            <p:cNvPicPr/>
            <p:nvPr/>
          </p:nvPicPr>
          <p:blipFill>
            <a:blip r:embed="rId3"/>
            <a:stretch/>
          </p:blipFill>
          <p:spPr>
            <a:xfrm>
              <a:off x="3438720" y="1415880"/>
              <a:ext cx="868320" cy="97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4" name="图片 4" descr="2.png"/>
            <p:cNvPicPr/>
            <p:nvPr/>
          </p:nvPicPr>
          <p:blipFill>
            <a:blip r:embed="rId4"/>
            <a:stretch/>
          </p:blipFill>
          <p:spPr>
            <a:xfrm>
              <a:off x="2616120" y="625320"/>
              <a:ext cx="866520" cy="97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5" name="图片 9" descr="2.png"/>
            <p:cNvPicPr/>
            <p:nvPr/>
          </p:nvPicPr>
          <p:blipFill>
            <a:blip r:embed="rId5"/>
            <a:stretch/>
          </p:blipFill>
          <p:spPr>
            <a:xfrm>
              <a:off x="4503960" y="285840"/>
              <a:ext cx="866520" cy="97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图片 10" descr="2.png"/>
            <p:cNvPicPr/>
            <p:nvPr/>
          </p:nvPicPr>
          <p:blipFill>
            <a:blip r:embed="rId6"/>
            <a:stretch/>
          </p:blipFill>
          <p:spPr>
            <a:xfrm>
              <a:off x="5370840" y="669960"/>
              <a:ext cx="868320" cy="97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图片 6" descr="2.png"/>
            <p:cNvPicPr/>
            <p:nvPr/>
          </p:nvPicPr>
          <p:blipFill>
            <a:blip r:embed="rId7"/>
            <a:stretch/>
          </p:blipFill>
          <p:spPr>
            <a:xfrm>
              <a:off x="2346480" y="2113200"/>
              <a:ext cx="866520" cy="97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8" name="图片 11" descr="2.png"/>
            <p:cNvPicPr/>
            <p:nvPr/>
          </p:nvPicPr>
          <p:blipFill>
            <a:blip r:embed="rId8"/>
            <a:stretch/>
          </p:blipFill>
          <p:spPr>
            <a:xfrm>
              <a:off x="4654800" y="1257120"/>
              <a:ext cx="866520" cy="97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9" name="图片 12" descr="2.png"/>
            <p:cNvPicPr/>
            <p:nvPr/>
          </p:nvPicPr>
          <p:blipFill>
            <a:blip r:embed="rId9"/>
            <a:stretch/>
          </p:blipFill>
          <p:spPr>
            <a:xfrm>
              <a:off x="5477040" y="2113200"/>
              <a:ext cx="866520" cy="97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0" name="图片 13" descr="2.png"/>
            <p:cNvPicPr/>
            <p:nvPr/>
          </p:nvPicPr>
          <p:blipFill>
            <a:blip r:embed="rId10"/>
            <a:stretch/>
          </p:blipFill>
          <p:spPr>
            <a:xfrm>
              <a:off x="6277320" y="1528920"/>
              <a:ext cx="866520" cy="97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1" name="图片 7" descr="2.png"/>
            <p:cNvPicPr/>
            <p:nvPr/>
          </p:nvPicPr>
          <p:blipFill>
            <a:blip r:embed="rId11"/>
            <a:stretch/>
          </p:blipFill>
          <p:spPr>
            <a:xfrm>
              <a:off x="3438720" y="2357640"/>
              <a:ext cx="868320" cy="97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2" name="图片 14" descr="2.png"/>
            <p:cNvPicPr/>
            <p:nvPr/>
          </p:nvPicPr>
          <p:blipFill>
            <a:blip r:embed="rId12"/>
            <a:stretch/>
          </p:blipFill>
          <p:spPr>
            <a:xfrm>
              <a:off x="4491000" y="2457720"/>
              <a:ext cx="866520" cy="971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23" name="图片 23" descr="17.png"/>
          <p:cNvPicPr/>
          <p:nvPr/>
        </p:nvPicPr>
        <p:blipFill>
          <a:blip r:embed="rId13"/>
          <a:stretch/>
        </p:blipFill>
        <p:spPr>
          <a:xfrm>
            <a:off x="2346480" y="4554360"/>
            <a:ext cx="977760" cy="2016360"/>
          </a:xfrm>
          <a:prstGeom prst="rect">
            <a:avLst/>
          </a:prstGeom>
          <a:ln w="0">
            <a:noFill/>
          </a:ln>
        </p:spPr>
      </p:pic>
      <p:grpSp>
        <p:nvGrpSpPr>
          <p:cNvPr id="724" name="组合 18"/>
          <p:cNvGrpSpPr/>
          <p:nvPr/>
        </p:nvGrpSpPr>
        <p:grpSpPr>
          <a:xfrm>
            <a:off x="5183280" y="4554360"/>
            <a:ext cx="3592440" cy="2041560"/>
            <a:chOff x="5183280" y="4554360"/>
            <a:chExt cx="3592440" cy="2041560"/>
          </a:xfrm>
        </p:grpSpPr>
        <p:pic>
          <p:nvPicPr>
            <p:cNvPr id="725" name="图片 34" descr="19.png"/>
            <p:cNvPicPr/>
            <p:nvPr/>
          </p:nvPicPr>
          <p:blipFill>
            <a:blip r:embed="rId14"/>
            <a:srcRect l="63857" t="0" r="0" b="0"/>
            <a:stretch/>
          </p:blipFill>
          <p:spPr>
            <a:xfrm>
              <a:off x="5183280" y="4554360"/>
              <a:ext cx="1056960" cy="204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6" name="图片 35" descr="2.png"/>
            <p:cNvPicPr/>
            <p:nvPr/>
          </p:nvPicPr>
          <p:blipFill>
            <a:blip r:embed="rId15"/>
            <a:srcRect l="32808" t="40102" r="32808" b="0"/>
            <a:stretch/>
          </p:blipFill>
          <p:spPr>
            <a:xfrm>
              <a:off x="8029440" y="4785840"/>
              <a:ext cx="746280" cy="1575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7" name="Text Box 19"/>
          <p:cNvSpPr/>
          <p:nvPr/>
        </p:nvSpPr>
        <p:spPr>
          <a:xfrm>
            <a:off x="826920" y="3429000"/>
            <a:ext cx="72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个苹果，平均分给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人，可以怎样分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动手操作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温馨提示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两人一组，用信封里的圆片代替苹果按照淘气的要求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一人分，一人记录分的过程，然后互换角色继续动手操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0" name="图片 18" descr="2.png"/>
          <p:cNvPicPr/>
          <p:nvPr/>
        </p:nvPicPr>
        <p:blipFill>
          <a:blip r:embed="rId1"/>
          <a:stretch/>
        </p:blipFill>
        <p:spPr>
          <a:xfrm>
            <a:off x="1897200" y="1415880"/>
            <a:ext cx="866520" cy="971640"/>
          </a:xfrm>
          <a:prstGeom prst="rect">
            <a:avLst/>
          </a:prstGeom>
          <a:ln w="0">
            <a:noFill/>
          </a:ln>
        </p:spPr>
      </p:pic>
      <p:pic>
        <p:nvPicPr>
          <p:cNvPr id="731" name="图片 8" descr="2.png"/>
          <p:cNvPicPr/>
          <p:nvPr/>
        </p:nvPicPr>
        <p:blipFill>
          <a:blip r:embed="rId2"/>
          <a:stretch/>
        </p:blipFill>
        <p:spPr>
          <a:xfrm>
            <a:off x="3591000" y="442800"/>
            <a:ext cx="868320" cy="973080"/>
          </a:xfrm>
          <a:prstGeom prst="rect">
            <a:avLst/>
          </a:prstGeom>
          <a:ln w="0">
            <a:noFill/>
          </a:ln>
        </p:spPr>
      </p:pic>
      <p:pic>
        <p:nvPicPr>
          <p:cNvPr id="732" name="图片 3" descr="2.png"/>
          <p:cNvPicPr/>
          <p:nvPr/>
        </p:nvPicPr>
        <p:blipFill>
          <a:blip r:embed="rId3"/>
          <a:stretch/>
        </p:blipFill>
        <p:spPr>
          <a:xfrm>
            <a:off x="3438360" y="1415880"/>
            <a:ext cx="868680" cy="971640"/>
          </a:xfrm>
          <a:prstGeom prst="rect">
            <a:avLst/>
          </a:prstGeom>
          <a:ln w="0">
            <a:noFill/>
          </a:ln>
        </p:spPr>
      </p:pic>
      <p:pic>
        <p:nvPicPr>
          <p:cNvPr id="733" name="图片 4" descr="2.png"/>
          <p:cNvPicPr/>
          <p:nvPr/>
        </p:nvPicPr>
        <p:blipFill>
          <a:blip r:embed="rId4"/>
          <a:stretch/>
        </p:blipFill>
        <p:spPr>
          <a:xfrm>
            <a:off x="2616120" y="625320"/>
            <a:ext cx="866880" cy="971640"/>
          </a:xfrm>
          <a:prstGeom prst="rect">
            <a:avLst/>
          </a:prstGeom>
          <a:ln w="0">
            <a:noFill/>
          </a:ln>
        </p:spPr>
      </p:pic>
      <p:pic>
        <p:nvPicPr>
          <p:cNvPr id="734" name="图片 9" descr="2.png"/>
          <p:cNvPicPr/>
          <p:nvPr/>
        </p:nvPicPr>
        <p:blipFill>
          <a:blip r:embed="rId5"/>
          <a:stretch/>
        </p:blipFill>
        <p:spPr>
          <a:xfrm>
            <a:off x="4503600" y="285840"/>
            <a:ext cx="866880" cy="971640"/>
          </a:xfrm>
          <a:prstGeom prst="rect">
            <a:avLst/>
          </a:prstGeom>
          <a:ln w="0">
            <a:noFill/>
          </a:ln>
        </p:spPr>
      </p:pic>
      <p:pic>
        <p:nvPicPr>
          <p:cNvPr id="735" name="图片 10" descr="2.png"/>
          <p:cNvPicPr/>
          <p:nvPr/>
        </p:nvPicPr>
        <p:blipFill>
          <a:blip r:embed="rId6"/>
          <a:stretch/>
        </p:blipFill>
        <p:spPr>
          <a:xfrm>
            <a:off x="5370480" y="669960"/>
            <a:ext cx="868320" cy="973080"/>
          </a:xfrm>
          <a:prstGeom prst="rect">
            <a:avLst/>
          </a:prstGeom>
          <a:ln w="0">
            <a:noFill/>
          </a:ln>
        </p:spPr>
      </p:pic>
      <p:pic>
        <p:nvPicPr>
          <p:cNvPr id="736" name="图片 6" descr="2.png"/>
          <p:cNvPicPr/>
          <p:nvPr/>
        </p:nvPicPr>
        <p:blipFill>
          <a:blip r:embed="rId7"/>
          <a:stretch/>
        </p:blipFill>
        <p:spPr>
          <a:xfrm>
            <a:off x="2346480" y="2112840"/>
            <a:ext cx="866520" cy="973440"/>
          </a:xfrm>
          <a:prstGeom prst="rect">
            <a:avLst/>
          </a:prstGeom>
          <a:ln w="0">
            <a:noFill/>
          </a:ln>
        </p:spPr>
      </p:pic>
      <p:pic>
        <p:nvPicPr>
          <p:cNvPr id="737" name="图片 11" descr="2.png"/>
          <p:cNvPicPr/>
          <p:nvPr/>
        </p:nvPicPr>
        <p:blipFill>
          <a:blip r:embed="rId8"/>
          <a:stretch/>
        </p:blipFill>
        <p:spPr>
          <a:xfrm>
            <a:off x="4654440" y="1257480"/>
            <a:ext cx="866880" cy="973080"/>
          </a:xfrm>
          <a:prstGeom prst="rect">
            <a:avLst/>
          </a:prstGeom>
          <a:ln w="0">
            <a:noFill/>
          </a:ln>
        </p:spPr>
      </p:pic>
      <p:pic>
        <p:nvPicPr>
          <p:cNvPr id="738" name="图片 12" descr="2.png"/>
          <p:cNvPicPr/>
          <p:nvPr/>
        </p:nvPicPr>
        <p:blipFill>
          <a:blip r:embed="rId9"/>
          <a:stretch/>
        </p:blipFill>
        <p:spPr>
          <a:xfrm>
            <a:off x="5477040" y="2112840"/>
            <a:ext cx="866520" cy="973440"/>
          </a:xfrm>
          <a:prstGeom prst="rect">
            <a:avLst/>
          </a:prstGeom>
          <a:ln w="0">
            <a:noFill/>
          </a:ln>
        </p:spPr>
      </p:pic>
      <p:pic>
        <p:nvPicPr>
          <p:cNvPr id="739" name="图片 13" descr="2.png"/>
          <p:cNvPicPr/>
          <p:nvPr/>
        </p:nvPicPr>
        <p:blipFill>
          <a:blip r:embed="rId10"/>
          <a:stretch/>
        </p:blipFill>
        <p:spPr>
          <a:xfrm>
            <a:off x="6276960" y="1528920"/>
            <a:ext cx="866880" cy="971280"/>
          </a:xfrm>
          <a:prstGeom prst="rect">
            <a:avLst/>
          </a:prstGeom>
          <a:ln w="0">
            <a:noFill/>
          </a:ln>
        </p:spPr>
      </p:pic>
      <p:pic>
        <p:nvPicPr>
          <p:cNvPr id="740" name="图片 7" descr="2.png"/>
          <p:cNvPicPr/>
          <p:nvPr/>
        </p:nvPicPr>
        <p:blipFill>
          <a:blip r:embed="rId11"/>
          <a:stretch/>
        </p:blipFill>
        <p:spPr>
          <a:xfrm>
            <a:off x="3438360" y="2357280"/>
            <a:ext cx="868680" cy="971640"/>
          </a:xfrm>
          <a:prstGeom prst="rect">
            <a:avLst/>
          </a:prstGeom>
          <a:ln w="0">
            <a:noFill/>
          </a:ln>
        </p:spPr>
      </p:pic>
      <p:pic>
        <p:nvPicPr>
          <p:cNvPr id="741" name="图片 14" descr="2.png"/>
          <p:cNvPicPr/>
          <p:nvPr/>
        </p:nvPicPr>
        <p:blipFill>
          <a:blip r:embed="rId12"/>
          <a:stretch/>
        </p:blipFill>
        <p:spPr>
          <a:xfrm>
            <a:off x="4491000" y="2457360"/>
            <a:ext cx="866880" cy="971640"/>
          </a:xfrm>
          <a:prstGeom prst="rect">
            <a:avLst/>
          </a:prstGeom>
          <a:ln w="0">
            <a:noFill/>
          </a:ln>
        </p:spPr>
      </p:pic>
      <p:sp>
        <p:nvSpPr>
          <p:cNvPr id="742" name="Text Box 19"/>
          <p:cNvSpPr/>
          <p:nvPr/>
        </p:nvSpPr>
        <p:spPr>
          <a:xfrm>
            <a:off x="826920" y="3429000"/>
            <a:ext cx="72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个苹果，平均分给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人，可以怎样分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Oval 20"/>
          <p:cNvSpPr/>
          <p:nvPr/>
        </p:nvSpPr>
        <p:spPr>
          <a:xfrm>
            <a:off x="108000" y="4579920"/>
            <a:ext cx="2508120" cy="151308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Oval 21"/>
          <p:cNvSpPr/>
          <p:nvPr/>
        </p:nvSpPr>
        <p:spPr>
          <a:xfrm>
            <a:off x="3000240" y="4581360"/>
            <a:ext cx="2508480" cy="151308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Oval 22"/>
          <p:cNvSpPr/>
          <p:nvPr/>
        </p:nvSpPr>
        <p:spPr>
          <a:xfrm>
            <a:off x="5889600" y="4579920"/>
            <a:ext cx="2508120" cy="151308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6" name="组合 36"/>
          <p:cNvGrpSpPr/>
          <p:nvPr/>
        </p:nvGrpSpPr>
        <p:grpSpPr>
          <a:xfrm>
            <a:off x="2346480" y="4554360"/>
            <a:ext cx="6467400" cy="2041560"/>
            <a:chOff x="2346480" y="4554360"/>
            <a:chExt cx="6467400" cy="2041560"/>
          </a:xfrm>
        </p:grpSpPr>
        <p:pic>
          <p:nvPicPr>
            <p:cNvPr id="747" name="图片 23" descr="17.png"/>
            <p:cNvPicPr/>
            <p:nvPr/>
          </p:nvPicPr>
          <p:blipFill>
            <a:blip r:embed="rId13"/>
            <a:stretch/>
          </p:blipFill>
          <p:spPr>
            <a:xfrm>
              <a:off x="2346480" y="4554360"/>
              <a:ext cx="977760" cy="201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8" name="图片 34" descr="19.png"/>
            <p:cNvPicPr/>
            <p:nvPr/>
          </p:nvPicPr>
          <p:blipFill>
            <a:blip r:embed="rId14"/>
            <a:srcRect l="63857" t="0" r="0" b="0"/>
            <a:stretch/>
          </p:blipFill>
          <p:spPr>
            <a:xfrm>
              <a:off x="5182200" y="4554360"/>
              <a:ext cx="1056960" cy="204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9" name="图片 35" descr="2.png"/>
            <p:cNvPicPr/>
            <p:nvPr/>
          </p:nvPicPr>
          <p:blipFill>
            <a:blip r:embed="rId15"/>
            <a:srcRect l="32808" t="40102" r="32808" b="0"/>
            <a:stretch/>
          </p:blipFill>
          <p:spPr>
            <a:xfrm>
              <a:off x="8028360" y="4782960"/>
              <a:ext cx="785520" cy="1575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himes.wav"/>
                                        </p:tgtEl>
                                      </p:cMediaNode>
                                    </p:audio>
                                    <p:animMotion origin="layout" path="M 3.05556E-006 0.01249 L -0.23507 0.57873 E">
                                      <p:cBhvr>
                                        <p:cTn id="49" dur="2000" fill="hold"/>
                                        <p:tgtEl>
                                          <p:spTgt spid="7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himes.wav"/>
                                        </p:tgtEl>
                                      </p:cMediaNode>
                                    </p:audio>
                                    <p:animMotion origin="layout" path="M -1.11111E-006 0.01249 L -0.08663 0.46151 E">
                                      <p:cBhvr>
                                        <p:cTn id="51" dur="2000" fill="hold"/>
                                        <p:tgtEl>
                                          <p:spTgt spid="7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himes.wav"/>
                                        </p:tgtEl>
                                      </p:cMediaNode>
                                    </p:audio>
                                    <p:animMotion origin="layout" path="M -3.05556E-006 0.01248 L -0.20468 0.43699 E">
                                      <p:cBhvr>
                                        <p:cTn id="53" dur="2000" fill="hold"/>
                                        <p:tgtEl>
                                          <p:spTgt spid="7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himes.wav"/>
                                        </p:tgtEl>
                                      </p:cMediaNode>
                                    </p:audio>
                                    <p:animMotion origin="layout" path="M -4.16667E-006 0.01249 L -0.25191 0.68578 E">
                                      <p:cBhvr>
                                        <p:cTn id="55" dur="2000" fill="hold"/>
                                        <p:tgtEl>
                                          <p:spTgt spid="7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himes.wav"/>
                                        </p:tgtEl>
                                      </p:cMediaNode>
                                    </p:audio>
                                    <p:animMotion origin="layout" path="M -5.55556E-007 4.45087E-006 L -0.0158 0.44902 E">
                                      <p:cBhvr>
                                        <p:cTn id="59" dur="2000" fill="hold"/>
                                        <p:tgtEl>
                                          <p:spTgt spid="7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himes.wav"/>
                                        </p:tgtEl>
                                      </p:cMediaNode>
                                    </p:audio>
                                    <p:animMotion origin="layout" path="M 2.5E-006 8.09249E-006 L -0.0158 0.3896 E">
                                      <p:cBhvr>
                                        <p:cTn id="61" dur="2000" fill="hold"/>
                                        <p:tgtEl>
                                          <p:spTgt spid="7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himes.wav"/>
                                        </p:tgtEl>
                                      </p:cMediaNode>
                                    </p:audio>
                                    <p:animMotion origin="layout" path="M -1.66667E-006 6.93642E-007 L -0.05503 0.63769 E">
                                      <p:cBhvr>
                                        <p:cTn id="63" dur="2000" fill="hold"/>
                                        <p:tgtEl>
                                          <p:spTgt spid="7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himes.wav"/>
                                        </p:tgtEl>
                                      </p:cMediaNode>
                                    </p:audio>
                                    <p:animMotion origin="layout" path="M 1.11111E-006 -3.52601E-006 L -0.05503 0.3896 E">
                                      <p:cBhvr>
                                        <p:cTn id="65" dur="2000" fill="hold"/>
                                        <p:tgtEl>
                                          <p:spTgt spid="7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himes.wav"/>
                                        </p:tgtEl>
                                      </p:cMediaNode>
                                    </p:audio>
                                    <p:animMotion origin="layout" path="M -3.61111E-006 -2.83237E-006 L 0.19636 0.48463 E">
                                      <p:cBhvr>
                                        <p:cTn id="69" dur="2000" fill="hold"/>
                                        <p:tgtEl>
                                          <p:spTgt spid="7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himes.wav"/>
                                        </p:tgtEl>
                                      </p:cMediaNode>
                                    </p:audio>
                                    <p:animMotion origin="layout" path="M 5.55556E-006 8.43931E-006 L 0.18126 0.55168 E">
                                      <p:cBhvr>
                                        <p:cTn id="71" dur="2000" fill="hold"/>
                                        <p:tgtEl>
                                          <p:spTgt spid="7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himes.wav"/>
                                        </p:tgtEl>
                                      </p:cMediaNode>
                                    </p:audio>
                                    <p:animMotion origin="layout" path="M 1.94444E-006 -5.54913E-006 L 0.11806 0.41271 E">
                                      <p:cBhvr>
                                        <p:cTn id="73" dur="2000" fill="hold"/>
                                        <p:tgtEl>
                                          <p:spTgt spid="7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himes.wav"/>
                                        </p:tgtEl>
                                      </p:cMediaNode>
                                    </p:audio>
                                    <p:animMotion origin="layout" path="M -4.16667E-006 -4.04624E-007 L 0.08212 0.4978 E">
                                      <p:cBhvr>
                                        <p:cTn id="75" dur="2000" fill="hold"/>
                                        <p:tgtEl>
                                          <p:spTgt spid="7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0" name="图片 33" descr="9.png"/>
          <p:cNvPicPr/>
          <p:nvPr/>
        </p:nvPicPr>
        <p:blipFill>
          <a:blip r:embed="rId1"/>
          <a:stretch/>
        </p:blipFill>
        <p:spPr>
          <a:xfrm>
            <a:off x="4602240" y="3890880"/>
            <a:ext cx="1838160" cy="2092320"/>
          </a:xfrm>
          <a:prstGeom prst="rect">
            <a:avLst/>
          </a:prstGeom>
          <a:ln w="0">
            <a:noFill/>
          </a:ln>
        </p:spPr>
      </p:pic>
      <p:pic>
        <p:nvPicPr>
          <p:cNvPr id="751" name="图片 33" descr="9.png"/>
          <p:cNvPicPr/>
          <p:nvPr/>
        </p:nvPicPr>
        <p:blipFill>
          <a:blip r:embed="rId2"/>
          <a:stretch/>
        </p:blipFill>
        <p:spPr>
          <a:xfrm>
            <a:off x="2762280" y="3890880"/>
            <a:ext cx="1839960" cy="2092320"/>
          </a:xfrm>
          <a:prstGeom prst="rect">
            <a:avLst/>
          </a:prstGeom>
          <a:ln w="0">
            <a:noFill/>
          </a:ln>
        </p:spPr>
      </p:pic>
      <p:pic>
        <p:nvPicPr>
          <p:cNvPr id="752" name="图片 33" descr="9.png"/>
          <p:cNvPicPr/>
          <p:nvPr/>
        </p:nvPicPr>
        <p:blipFill>
          <a:blip r:embed="rId3"/>
          <a:stretch/>
        </p:blipFill>
        <p:spPr>
          <a:xfrm>
            <a:off x="977760" y="3890880"/>
            <a:ext cx="1838520" cy="2090880"/>
          </a:xfrm>
          <a:prstGeom prst="rect">
            <a:avLst/>
          </a:prstGeom>
          <a:ln w="0">
            <a:noFill/>
          </a:ln>
        </p:spPr>
      </p:pic>
      <p:pic>
        <p:nvPicPr>
          <p:cNvPr id="753" name="图片 18" descr="2.png"/>
          <p:cNvPicPr/>
          <p:nvPr/>
        </p:nvPicPr>
        <p:blipFill>
          <a:blip r:embed="rId4"/>
          <a:stretch/>
        </p:blipFill>
        <p:spPr>
          <a:xfrm>
            <a:off x="1897200" y="1415880"/>
            <a:ext cx="866520" cy="971640"/>
          </a:xfrm>
          <a:prstGeom prst="rect">
            <a:avLst/>
          </a:prstGeom>
          <a:ln w="0">
            <a:noFill/>
          </a:ln>
        </p:spPr>
      </p:pic>
      <p:pic>
        <p:nvPicPr>
          <p:cNvPr id="754" name="图片 3" descr="2.png"/>
          <p:cNvPicPr/>
          <p:nvPr/>
        </p:nvPicPr>
        <p:blipFill>
          <a:blip r:embed="rId5"/>
          <a:stretch/>
        </p:blipFill>
        <p:spPr>
          <a:xfrm>
            <a:off x="3438360" y="1415880"/>
            <a:ext cx="868680" cy="971640"/>
          </a:xfrm>
          <a:prstGeom prst="rect">
            <a:avLst/>
          </a:prstGeom>
          <a:ln w="0">
            <a:noFill/>
          </a:ln>
        </p:spPr>
      </p:pic>
      <p:pic>
        <p:nvPicPr>
          <p:cNvPr id="755" name="图片 4" descr="2.png"/>
          <p:cNvPicPr/>
          <p:nvPr/>
        </p:nvPicPr>
        <p:blipFill>
          <a:blip r:embed="rId6"/>
          <a:stretch/>
        </p:blipFill>
        <p:spPr>
          <a:xfrm>
            <a:off x="2616120" y="625320"/>
            <a:ext cx="866880" cy="971640"/>
          </a:xfrm>
          <a:prstGeom prst="rect">
            <a:avLst/>
          </a:prstGeom>
          <a:ln w="0">
            <a:noFill/>
          </a:ln>
        </p:spPr>
      </p:pic>
      <p:pic>
        <p:nvPicPr>
          <p:cNvPr id="756" name="图片 10" descr="2.png"/>
          <p:cNvPicPr/>
          <p:nvPr/>
        </p:nvPicPr>
        <p:blipFill>
          <a:blip r:embed="rId7"/>
          <a:stretch/>
        </p:blipFill>
        <p:spPr>
          <a:xfrm>
            <a:off x="5370480" y="669960"/>
            <a:ext cx="868320" cy="973080"/>
          </a:xfrm>
          <a:prstGeom prst="rect">
            <a:avLst/>
          </a:prstGeom>
          <a:ln w="0">
            <a:noFill/>
          </a:ln>
        </p:spPr>
      </p:pic>
      <p:pic>
        <p:nvPicPr>
          <p:cNvPr id="757" name="图片 6" descr="2.png"/>
          <p:cNvPicPr/>
          <p:nvPr/>
        </p:nvPicPr>
        <p:blipFill>
          <a:blip r:embed="rId8"/>
          <a:stretch/>
        </p:blipFill>
        <p:spPr>
          <a:xfrm>
            <a:off x="2346480" y="2112840"/>
            <a:ext cx="866520" cy="973440"/>
          </a:xfrm>
          <a:prstGeom prst="rect">
            <a:avLst/>
          </a:prstGeom>
          <a:ln w="0">
            <a:noFill/>
          </a:ln>
        </p:spPr>
      </p:pic>
      <p:pic>
        <p:nvPicPr>
          <p:cNvPr id="758" name="图片 8" descr="2.png"/>
          <p:cNvPicPr/>
          <p:nvPr/>
        </p:nvPicPr>
        <p:blipFill>
          <a:blip r:embed="rId9"/>
          <a:stretch/>
        </p:blipFill>
        <p:spPr>
          <a:xfrm>
            <a:off x="3591000" y="442800"/>
            <a:ext cx="868320" cy="973080"/>
          </a:xfrm>
          <a:prstGeom prst="rect">
            <a:avLst/>
          </a:prstGeom>
          <a:ln w="0">
            <a:noFill/>
          </a:ln>
        </p:spPr>
      </p:pic>
      <p:pic>
        <p:nvPicPr>
          <p:cNvPr id="759" name="图片 9" descr="2.png"/>
          <p:cNvPicPr/>
          <p:nvPr/>
        </p:nvPicPr>
        <p:blipFill>
          <a:blip r:embed="rId10"/>
          <a:stretch/>
        </p:blipFill>
        <p:spPr>
          <a:xfrm>
            <a:off x="4503600" y="285840"/>
            <a:ext cx="866880" cy="971640"/>
          </a:xfrm>
          <a:prstGeom prst="rect">
            <a:avLst/>
          </a:prstGeom>
          <a:ln w="0">
            <a:noFill/>
          </a:ln>
        </p:spPr>
      </p:pic>
      <p:pic>
        <p:nvPicPr>
          <p:cNvPr id="760" name="图片 11" descr="2.png"/>
          <p:cNvPicPr/>
          <p:nvPr/>
        </p:nvPicPr>
        <p:blipFill>
          <a:blip r:embed="rId11"/>
          <a:stretch/>
        </p:blipFill>
        <p:spPr>
          <a:xfrm>
            <a:off x="4654440" y="1257480"/>
            <a:ext cx="866880" cy="973080"/>
          </a:xfrm>
          <a:prstGeom prst="rect">
            <a:avLst/>
          </a:prstGeom>
          <a:ln w="0">
            <a:noFill/>
          </a:ln>
        </p:spPr>
      </p:pic>
      <p:pic>
        <p:nvPicPr>
          <p:cNvPr id="761" name="图片 12" descr="2.png"/>
          <p:cNvPicPr/>
          <p:nvPr/>
        </p:nvPicPr>
        <p:blipFill>
          <a:blip r:embed="rId12"/>
          <a:stretch/>
        </p:blipFill>
        <p:spPr>
          <a:xfrm>
            <a:off x="5477040" y="2112840"/>
            <a:ext cx="866520" cy="973440"/>
          </a:xfrm>
          <a:prstGeom prst="rect">
            <a:avLst/>
          </a:prstGeom>
          <a:ln w="0">
            <a:noFill/>
          </a:ln>
        </p:spPr>
      </p:pic>
      <p:pic>
        <p:nvPicPr>
          <p:cNvPr id="762" name="图片 13" descr="2.png"/>
          <p:cNvPicPr/>
          <p:nvPr/>
        </p:nvPicPr>
        <p:blipFill>
          <a:blip r:embed="rId13"/>
          <a:stretch/>
        </p:blipFill>
        <p:spPr>
          <a:xfrm>
            <a:off x="6276960" y="1528920"/>
            <a:ext cx="866880" cy="971280"/>
          </a:xfrm>
          <a:prstGeom prst="rect">
            <a:avLst/>
          </a:prstGeom>
          <a:ln w="0">
            <a:noFill/>
          </a:ln>
        </p:spPr>
      </p:pic>
      <p:pic>
        <p:nvPicPr>
          <p:cNvPr id="763" name="图片 7" descr="2.png"/>
          <p:cNvPicPr/>
          <p:nvPr/>
        </p:nvPicPr>
        <p:blipFill>
          <a:blip r:embed="rId14"/>
          <a:stretch/>
        </p:blipFill>
        <p:spPr>
          <a:xfrm>
            <a:off x="3438360" y="2357280"/>
            <a:ext cx="868680" cy="971640"/>
          </a:xfrm>
          <a:prstGeom prst="rect">
            <a:avLst/>
          </a:prstGeom>
          <a:ln w="0">
            <a:noFill/>
          </a:ln>
        </p:spPr>
      </p:pic>
      <p:pic>
        <p:nvPicPr>
          <p:cNvPr id="764" name="图片 14" descr="2.png"/>
          <p:cNvPicPr/>
          <p:nvPr/>
        </p:nvPicPr>
        <p:blipFill>
          <a:blip r:embed="rId15"/>
          <a:stretch/>
        </p:blipFill>
        <p:spPr>
          <a:xfrm>
            <a:off x="4491000" y="2457360"/>
            <a:ext cx="866880" cy="971640"/>
          </a:xfrm>
          <a:prstGeom prst="rect">
            <a:avLst/>
          </a:prstGeom>
          <a:ln w="0">
            <a:noFill/>
          </a:ln>
        </p:spPr>
      </p:pic>
      <p:sp>
        <p:nvSpPr>
          <p:cNvPr id="765" name="Text Box 19"/>
          <p:cNvSpPr/>
          <p:nvPr/>
        </p:nvSpPr>
        <p:spPr>
          <a:xfrm>
            <a:off x="2319120" y="3429000"/>
            <a:ext cx="383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个苹果，每袋装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个，需要几个袋子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himes.wav"/>
                                        </p:tgtEl>
                                      </p:cMediaNode>
                                    </p:audio>
                                    <p:animMotion origin="layout" path="M 1.38889E-006 1.48148E-006 L -0.16632 0.62292 E">
                                      <p:cBhvr>
                                        <p:cTn id="91" dur="2000" fill="hold"/>
                                        <p:tgtEl>
                                          <p:spTgt spid="7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mes.wav"/>
                                        </p:tgtEl>
                                      </p:cMediaNode>
                                    </p:audio>
                                    <p:animMotion origin="layout" path="M 0 -4.81481E-006 L -0.08663 0.44908 E">
                                      <p:cBhvr>
                                        <p:cTn id="93" dur="2000" fill="hold"/>
                                        <p:tgtEl>
                                          <p:spTgt spid="7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himes.wav"/>
                                        </p:tgtEl>
                                      </p:cMediaNode>
                                    </p:audio>
                                    <p:animMotion origin="layout" path="M 5E-006 4.81481E-006 L -0.054 0.37129 E">
                                      <p:cBhvr>
                                        <p:cTn id="95" dur="2000" fill="hold"/>
                                        <p:tgtEl>
                                          <p:spTgt spid="7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himes.wav"/>
                                        </p:tgtEl>
                                      </p:cMediaNode>
                                    </p:audio>
                                    <p:animMotion origin="layout" path="M 0.00053 3.33333E-006 L -0.21579 0.65416 E">
                                      <p:cBhvr>
                                        <p:cTn id="97" dur="2000" fill="hold"/>
                                        <p:tgtEl>
                                          <p:spTgt spid="7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2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himes.wav"/>
                                        </p:tgtEl>
                                      </p:cMediaNode>
                                    </p:audio>
                                    <p:animMotion origin="layout" path="M 2.5E-006 -4.81481E-006 L -0.05729 0.44283 E">
                                      <p:cBhvr>
                                        <p:cTn id="106" dur="2000" fill="hold"/>
                                        <p:tgtEl>
                                          <p:spTgt spid="7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himes.wav"/>
                                        </p:tgtEl>
                                      </p:cMediaNode>
                                    </p:audio>
                                    <p:animMotion origin="layout" path="M 1.11111E-006 3.33333E-006 L -0.04931 0.375 E">
                                      <p:cBhvr>
                                        <p:cTn id="108" dur="2000" fill="hold"/>
                                        <p:tgtEl>
                                          <p:spTgt spid="7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himes.wav"/>
                                        </p:tgtEl>
                                      </p:cMediaNode>
                                    </p:audio>
                                    <p:animMotion origin="layout" path="M -5.55556E-007 1.38778E-017 L -0.11146 0.58449 E">
                                      <p:cBhvr>
                                        <p:cTn id="110" dur="2000" fill="hold"/>
                                        <p:tgtEl>
                                          <p:spTgt spid="7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himes.wav"/>
                                        </p:tgtEl>
                                      </p:cMediaNode>
                                    </p:audio>
                                    <p:animMotion origin="layout" path="M -1.66667E-006 3.33333E-006 L -0.11007 0.35578 E">
                                      <p:cBhvr>
                                        <p:cTn id="112" dur="2000" fill="hold"/>
                                        <p:tgtEl>
                                          <p:spTgt spid="7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7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himes.wav"/>
                                        </p:tgtEl>
                                      </p:cMediaNode>
                                    </p:audio>
                                    <p:animMotion origin="layout" path="M -2.22222E-006 1.48148E-006 L -2.22222E-006 0.55162 E">
                                      <p:cBhvr>
                                        <p:cTn id="121" dur="2000" fill="hold"/>
                                        <p:tgtEl>
                                          <p:spTgt spid="7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himes.wav"/>
                                        </p:tgtEl>
                                      </p:cMediaNode>
                                    </p:audio>
                                    <p:animMotion origin="layout" path="M -4.16667E-006 4.81481E-006 L -0.01163 0.40601 E">
                                      <p:cBhvr>
                                        <p:cTn id="123" dur="2000" fill="hold"/>
                                        <p:tgtEl>
                                          <p:spTgt spid="7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himes.wav"/>
                                        </p:tgtEl>
                                      </p:cMediaNode>
                                    </p:audio>
                                    <p:animMotion origin="layout" path="M -4.16667E-006 0 L -0.16302 0.42639 E">
                                      <p:cBhvr>
                                        <p:cTn id="125" dur="2000" fill="hold"/>
                                        <p:tgtEl>
                                          <p:spTgt spid="7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himes.wav"/>
                                        </p:tgtEl>
                                      </p:cMediaNode>
                                    </p:audio>
                                    <p:animMotion origin="layout" path="M -3.61111E-006 3.33333E-006 L 0.01441 0.53541 E">
                                      <p:cBhvr>
                                        <p:cTn id="127" dur="2000" fill="hold"/>
                                        <p:tgtEl>
                                          <p:spTgt spid="7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6" name="组合 46"/>
          <p:cNvGrpSpPr/>
          <p:nvPr/>
        </p:nvGrpSpPr>
        <p:grpSpPr>
          <a:xfrm>
            <a:off x="3049560" y="1569960"/>
            <a:ext cx="3933720" cy="1128600"/>
            <a:chOff x="3049560" y="1569960"/>
            <a:chExt cx="3933720" cy="1128600"/>
          </a:xfrm>
        </p:grpSpPr>
        <p:grpSp>
          <p:nvGrpSpPr>
            <p:cNvPr id="767" name="Group 15"/>
            <p:cNvGrpSpPr/>
            <p:nvPr/>
          </p:nvGrpSpPr>
          <p:grpSpPr>
            <a:xfrm>
              <a:off x="3049560" y="1569960"/>
              <a:ext cx="1123200" cy="1033920"/>
              <a:chOff x="3049560" y="1569960"/>
              <a:chExt cx="1123200" cy="1033920"/>
            </a:xfrm>
          </p:grpSpPr>
          <p:pic>
            <p:nvPicPr>
              <p:cNvPr id="768" name="图片 8" descr="2.png"/>
              <p:cNvPicPr/>
              <p:nvPr/>
            </p:nvPicPr>
            <p:blipFill>
              <a:blip r:embed="rId1"/>
              <a:stretch/>
            </p:blipFill>
            <p:spPr>
              <a:xfrm>
                <a:off x="3049560" y="1569960"/>
                <a:ext cx="602640" cy="709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69" name="图片 4" descr="2.png"/>
              <p:cNvPicPr/>
              <p:nvPr/>
            </p:nvPicPr>
            <p:blipFill>
              <a:blip r:embed="rId2"/>
              <a:stretch/>
            </p:blipFill>
            <p:spPr>
              <a:xfrm>
                <a:off x="3570840" y="1623960"/>
                <a:ext cx="601920" cy="707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70" name="图片 9" descr="2.png"/>
              <p:cNvPicPr/>
              <p:nvPr/>
            </p:nvPicPr>
            <p:blipFill>
              <a:blip r:embed="rId3"/>
              <a:stretch/>
            </p:blipFill>
            <p:spPr>
              <a:xfrm>
                <a:off x="3570840" y="1896120"/>
                <a:ext cx="601920" cy="707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71" name="图片 10" descr="2.png"/>
              <p:cNvPicPr/>
              <p:nvPr/>
            </p:nvPicPr>
            <p:blipFill>
              <a:blip r:embed="rId4"/>
              <a:stretch/>
            </p:blipFill>
            <p:spPr>
              <a:xfrm>
                <a:off x="3049560" y="1881720"/>
                <a:ext cx="602640" cy="708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72" name="Group 16"/>
            <p:cNvGrpSpPr/>
            <p:nvPr/>
          </p:nvGrpSpPr>
          <p:grpSpPr>
            <a:xfrm>
              <a:off x="4434120" y="1584360"/>
              <a:ext cx="1146240" cy="1060200"/>
              <a:chOff x="4434120" y="1584360"/>
              <a:chExt cx="1146240" cy="1060200"/>
            </a:xfrm>
          </p:grpSpPr>
          <p:pic>
            <p:nvPicPr>
              <p:cNvPr id="773" name="图片 8" descr="2.png"/>
              <p:cNvPicPr/>
              <p:nvPr/>
            </p:nvPicPr>
            <p:blipFill>
              <a:blip r:embed="rId5"/>
              <a:stretch/>
            </p:blipFill>
            <p:spPr>
              <a:xfrm>
                <a:off x="4434120" y="1584360"/>
                <a:ext cx="625680" cy="735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74" name="图片 4" descr="2.png"/>
              <p:cNvPicPr/>
              <p:nvPr/>
            </p:nvPicPr>
            <p:blipFill>
              <a:blip r:embed="rId6"/>
              <a:stretch/>
            </p:blipFill>
            <p:spPr>
              <a:xfrm>
                <a:off x="4955760" y="1638360"/>
                <a:ext cx="624600" cy="734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75" name="图片 9" descr="2.png"/>
              <p:cNvPicPr/>
              <p:nvPr/>
            </p:nvPicPr>
            <p:blipFill>
              <a:blip r:embed="rId7"/>
              <a:stretch/>
            </p:blipFill>
            <p:spPr>
              <a:xfrm>
                <a:off x="4955760" y="1910520"/>
                <a:ext cx="624600" cy="734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76" name="图片 10" descr="2.png"/>
              <p:cNvPicPr/>
              <p:nvPr/>
            </p:nvPicPr>
            <p:blipFill>
              <a:blip r:embed="rId8"/>
              <a:stretch/>
            </p:blipFill>
            <p:spPr>
              <a:xfrm>
                <a:off x="4434120" y="1896120"/>
                <a:ext cx="625680" cy="735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77" name="Group 21"/>
            <p:cNvGrpSpPr/>
            <p:nvPr/>
          </p:nvGrpSpPr>
          <p:grpSpPr>
            <a:xfrm>
              <a:off x="5837040" y="1638360"/>
              <a:ext cx="1146240" cy="1060200"/>
              <a:chOff x="5837040" y="1638360"/>
              <a:chExt cx="1146240" cy="1060200"/>
            </a:xfrm>
          </p:grpSpPr>
          <p:pic>
            <p:nvPicPr>
              <p:cNvPr id="778" name="图片 8" descr="2.png"/>
              <p:cNvPicPr/>
              <p:nvPr/>
            </p:nvPicPr>
            <p:blipFill>
              <a:blip r:embed="rId9"/>
              <a:stretch/>
            </p:blipFill>
            <p:spPr>
              <a:xfrm>
                <a:off x="5837040" y="1638360"/>
                <a:ext cx="625680" cy="735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79" name="图片 4" descr="2.png"/>
              <p:cNvPicPr/>
              <p:nvPr/>
            </p:nvPicPr>
            <p:blipFill>
              <a:blip r:embed="rId10"/>
              <a:stretch/>
            </p:blipFill>
            <p:spPr>
              <a:xfrm>
                <a:off x="6358680" y="1692360"/>
                <a:ext cx="624600" cy="734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80" name="图片 9" descr="2.png"/>
              <p:cNvPicPr/>
              <p:nvPr/>
            </p:nvPicPr>
            <p:blipFill>
              <a:blip r:embed="rId11"/>
              <a:stretch/>
            </p:blipFill>
            <p:spPr>
              <a:xfrm>
                <a:off x="6358680" y="1964520"/>
                <a:ext cx="624600" cy="734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81" name="图片 10" descr="2.png"/>
              <p:cNvPicPr/>
              <p:nvPr/>
            </p:nvPicPr>
            <p:blipFill>
              <a:blip r:embed="rId12"/>
              <a:stretch/>
            </p:blipFill>
            <p:spPr>
              <a:xfrm>
                <a:off x="5837040" y="1950120"/>
                <a:ext cx="625680" cy="7351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782" name="Text Box 26"/>
          <p:cNvSpPr/>
          <p:nvPr/>
        </p:nvSpPr>
        <p:spPr>
          <a:xfrm>
            <a:off x="2903400" y="2903400"/>
            <a:ext cx="30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每袋装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3" name="组合 47"/>
          <p:cNvGrpSpPr/>
          <p:nvPr/>
        </p:nvGrpSpPr>
        <p:grpSpPr>
          <a:xfrm>
            <a:off x="7322040" y="1305000"/>
            <a:ext cx="1155240" cy="4176720"/>
            <a:chOff x="7322040" y="1305000"/>
            <a:chExt cx="1155240" cy="4176720"/>
          </a:xfrm>
        </p:grpSpPr>
        <p:sp>
          <p:nvSpPr>
            <p:cNvPr id="784" name="AutoShape 52"/>
            <p:cNvSpPr/>
            <p:nvPr/>
          </p:nvSpPr>
          <p:spPr>
            <a:xfrm>
              <a:off x="7510320" y="1305000"/>
              <a:ext cx="295200" cy="4176720"/>
            </a:xfrm>
            <a:custGeom>
              <a:avLst/>
              <a:gdLst>
                <a:gd name="textAreaLeft" fmla="*/ 0 w 295200"/>
                <a:gd name="textAreaRight" fmla="*/ 106560 w 295200"/>
                <a:gd name="textAreaTop" fmla="*/ 108720 h 4176720"/>
                <a:gd name="textAreaBottom" fmla="*/ 4068000 h 417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Text Box 53"/>
            <p:cNvSpPr/>
            <p:nvPr/>
          </p:nvSpPr>
          <p:spPr>
            <a:xfrm>
              <a:off x="7322040" y="2671920"/>
              <a:ext cx="1155240" cy="13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平均分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6" name="组合 63"/>
          <p:cNvGrpSpPr/>
          <p:nvPr/>
        </p:nvGrpSpPr>
        <p:grpSpPr>
          <a:xfrm>
            <a:off x="2016000" y="781200"/>
            <a:ext cx="4646880" cy="4833720"/>
            <a:chOff x="2016000" y="781200"/>
            <a:chExt cx="4646880" cy="4833720"/>
          </a:xfrm>
        </p:grpSpPr>
        <p:sp>
          <p:nvSpPr>
            <p:cNvPr id="787" name="Text Box 14"/>
            <p:cNvSpPr/>
            <p:nvPr/>
          </p:nvSpPr>
          <p:spPr>
            <a:xfrm>
              <a:off x="2837160" y="781200"/>
              <a:ext cx="3825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平均分给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3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个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AutoShape 52"/>
            <p:cNvSpPr/>
            <p:nvPr/>
          </p:nvSpPr>
          <p:spPr>
            <a:xfrm rot="10800000">
              <a:off x="2016000" y="1437480"/>
              <a:ext cx="295200" cy="4177440"/>
            </a:xfrm>
            <a:custGeom>
              <a:avLst/>
              <a:gdLst>
                <a:gd name="textAreaLeft" fmla="*/ 0 w 295200"/>
                <a:gd name="textAreaRight" fmla="*/ 106560 w 295200"/>
                <a:gd name="textAreaTop" fmla="*/ 108720 h 4177440"/>
                <a:gd name="textAreaBottom" fmla="*/ 4068720 h 4177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9" name="组合 50"/>
          <p:cNvGrpSpPr/>
          <p:nvPr/>
        </p:nvGrpSpPr>
        <p:grpSpPr>
          <a:xfrm>
            <a:off x="479520" y="2149560"/>
            <a:ext cx="1536480" cy="2568600"/>
            <a:chOff x="479520" y="2149560"/>
            <a:chExt cx="1536480" cy="2568600"/>
          </a:xfrm>
        </p:grpSpPr>
        <p:pic>
          <p:nvPicPr>
            <p:cNvPr id="790" name="图片 51" descr="2.png"/>
            <p:cNvPicPr/>
            <p:nvPr/>
          </p:nvPicPr>
          <p:blipFill>
            <a:blip r:embed="rId13"/>
            <a:stretch/>
          </p:blipFill>
          <p:spPr>
            <a:xfrm>
              <a:off x="479520" y="3073320"/>
              <a:ext cx="253800" cy="79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1" name="图片 8" descr="2.png"/>
            <p:cNvPicPr/>
            <p:nvPr/>
          </p:nvPicPr>
          <p:blipFill>
            <a:blip r:embed="rId14"/>
            <a:stretch/>
          </p:blipFill>
          <p:spPr>
            <a:xfrm>
              <a:off x="975600" y="2277720"/>
              <a:ext cx="254160" cy="79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2" name="图片 3" descr="2.png"/>
            <p:cNvPicPr/>
            <p:nvPr/>
          </p:nvPicPr>
          <p:blipFill>
            <a:blip r:embed="rId15"/>
            <a:stretch/>
          </p:blipFill>
          <p:spPr>
            <a:xfrm>
              <a:off x="930960" y="3073320"/>
              <a:ext cx="254160" cy="79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3" name="图片 4" descr="2.png"/>
            <p:cNvPicPr/>
            <p:nvPr/>
          </p:nvPicPr>
          <p:blipFill>
            <a:blip r:embed="rId16"/>
            <a:stretch/>
          </p:blipFill>
          <p:spPr>
            <a:xfrm>
              <a:off x="690120" y="2427120"/>
              <a:ext cx="253800" cy="79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4" name="图片 9" descr="2.png"/>
            <p:cNvPicPr/>
            <p:nvPr/>
          </p:nvPicPr>
          <p:blipFill>
            <a:blip r:embed="rId17"/>
            <a:stretch/>
          </p:blipFill>
          <p:spPr>
            <a:xfrm>
              <a:off x="1242720" y="2149560"/>
              <a:ext cx="253800" cy="79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5" name="图片 10" descr="2.png"/>
            <p:cNvPicPr/>
            <p:nvPr/>
          </p:nvPicPr>
          <p:blipFill>
            <a:blip r:embed="rId18"/>
            <a:stretch/>
          </p:blipFill>
          <p:spPr>
            <a:xfrm>
              <a:off x="1496880" y="2463480"/>
              <a:ext cx="254160" cy="79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6" name="图片 6" descr="2.png"/>
            <p:cNvPicPr/>
            <p:nvPr/>
          </p:nvPicPr>
          <p:blipFill>
            <a:blip r:embed="rId19"/>
            <a:stretch/>
          </p:blipFill>
          <p:spPr>
            <a:xfrm>
              <a:off x="610920" y="3642840"/>
              <a:ext cx="253800" cy="79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7" name="图片 11" descr="2.png"/>
            <p:cNvPicPr/>
            <p:nvPr/>
          </p:nvPicPr>
          <p:blipFill>
            <a:blip r:embed="rId20"/>
            <a:stretch/>
          </p:blipFill>
          <p:spPr>
            <a:xfrm>
              <a:off x="1287000" y="2943360"/>
              <a:ext cx="253800" cy="79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8" name="图片 12" descr="2.png"/>
            <p:cNvPicPr/>
            <p:nvPr/>
          </p:nvPicPr>
          <p:blipFill>
            <a:blip r:embed="rId21"/>
            <a:stretch/>
          </p:blipFill>
          <p:spPr>
            <a:xfrm>
              <a:off x="1527840" y="3642840"/>
              <a:ext cx="253800" cy="79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9" name="图片 13" descr="2.png"/>
            <p:cNvPicPr/>
            <p:nvPr/>
          </p:nvPicPr>
          <p:blipFill>
            <a:blip r:embed="rId22"/>
            <a:stretch/>
          </p:blipFill>
          <p:spPr>
            <a:xfrm>
              <a:off x="1762200" y="3165120"/>
              <a:ext cx="253800" cy="79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0" name="图片 7" descr="2.png"/>
            <p:cNvPicPr/>
            <p:nvPr/>
          </p:nvPicPr>
          <p:blipFill>
            <a:blip r:embed="rId23"/>
            <a:stretch/>
          </p:blipFill>
          <p:spPr>
            <a:xfrm>
              <a:off x="930960" y="3842640"/>
              <a:ext cx="254160" cy="79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1" name="图片 14" descr="2.png"/>
            <p:cNvPicPr/>
            <p:nvPr/>
          </p:nvPicPr>
          <p:blipFill>
            <a:blip r:embed="rId24"/>
            <a:stretch/>
          </p:blipFill>
          <p:spPr>
            <a:xfrm>
              <a:off x="1239120" y="3924360"/>
              <a:ext cx="253800" cy="793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2" name="Oval 54"/>
          <p:cNvSpPr/>
          <p:nvPr/>
        </p:nvSpPr>
        <p:spPr>
          <a:xfrm>
            <a:off x="2878200" y="1438200"/>
            <a:ext cx="1295280" cy="127944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Oval 56"/>
          <p:cNvSpPr/>
          <p:nvPr/>
        </p:nvSpPr>
        <p:spPr>
          <a:xfrm>
            <a:off x="4280040" y="1411200"/>
            <a:ext cx="1352520" cy="130644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Oval 57"/>
          <p:cNvSpPr/>
          <p:nvPr/>
        </p:nvSpPr>
        <p:spPr>
          <a:xfrm>
            <a:off x="5764320" y="1438200"/>
            <a:ext cx="1295280" cy="126072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5" name="组合 72"/>
          <p:cNvGrpSpPr/>
          <p:nvPr/>
        </p:nvGrpSpPr>
        <p:grpSpPr>
          <a:xfrm>
            <a:off x="2446200" y="3521160"/>
            <a:ext cx="1727280" cy="2187360"/>
            <a:chOff x="2446200" y="3521160"/>
            <a:chExt cx="1727280" cy="2187360"/>
          </a:xfrm>
        </p:grpSpPr>
        <p:pic>
          <p:nvPicPr>
            <p:cNvPr id="806" name="图片 33" descr="9.png"/>
            <p:cNvPicPr/>
            <p:nvPr/>
          </p:nvPicPr>
          <p:blipFill>
            <a:blip r:embed="rId25"/>
            <a:stretch/>
          </p:blipFill>
          <p:spPr>
            <a:xfrm>
              <a:off x="2446200" y="3521160"/>
              <a:ext cx="1727280" cy="21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7" name="图片 8" descr="2.png"/>
            <p:cNvPicPr/>
            <p:nvPr/>
          </p:nvPicPr>
          <p:blipFill>
            <a:blip r:embed="rId26"/>
            <a:stretch/>
          </p:blipFill>
          <p:spPr>
            <a:xfrm>
              <a:off x="2643120" y="4002120"/>
              <a:ext cx="699120" cy="87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8" name="图片 9" descr="2.png"/>
            <p:cNvPicPr/>
            <p:nvPr/>
          </p:nvPicPr>
          <p:blipFill>
            <a:blip r:embed="rId27"/>
            <a:stretch/>
          </p:blipFill>
          <p:spPr>
            <a:xfrm>
              <a:off x="3223440" y="4604040"/>
              <a:ext cx="697320" cy="87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9" name="图片 10" descr="2.png"/>
            <p:cNvPicPr/>
            <p:nvPr/>
          </p:nvPicPr>
          <p:blipFill>
            <a:blip r:embed="rId28"/>
            <a:stretch/>
          </p:blipFill>
          <p:spPr>
            <a:xfrm>
              <a:off x="2643120" y="4604040"/>
              <a:ext cx="699120" cy="87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0" name="图片 9" descr="2.png"/>
            <p:cNvPicPr/>
            <p:nvPr/>
          </p:nvPicPr>
          <p:blipFill>
            <a:blip r:embed="rId29"/>
            <a:stretch/>
          </p:blipFill>
          <p:spPr>
            <a:xfrm>
              <a:off x="3223440" y="4002120"/>
              <a:ext cx="697320" cy="871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11" name="组合 85"/>
          <p:cNvGrpSpPr/>
          <p:nvPr/>
        </p:nvGrpSpPr>
        <p:grpSpPr>
          <a:xfrm>
            <a:off x="4197240" y="3532320"/>
            <a:ext cx="1725840" cy="2185920"/>
            <a:chOff x="4197240" y="3532320"/>
            <a:chExt cx="1725840" cy="2185920"/>
          </a:xfrm>
        </p:grpSpPr>
        <p:pic>
          <p:nvPicPr>
            <p:cNvPr id="812" name="图片 33" descr="9.png"/>
            <p:cNvPicPr/>
            <p:nvPr/>
          </p:nvPicPr>
          <p:blipFill>
            <a:blip r:embed="rId30"/>
            <a:stretch/>
          </p:blipFill>
          <p:spPr>
            <a:xfrm>
              <a:off x="4197240" y="3532320"/>
              <a:ext cx="1725840" cy="218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3" name="图片 8" descr="2.png"/>
            <p:cNvPicPr/>
            <p:nvPr/>
          </p:nvPicPr>
          <p:blipFill>
            <a:blip r:embed="rId31"/>
            <a:stretch/>
          </p:blipFill>
          <p:spPr>
            <a:xfrm>
              <a:off x="4394160" y="4012920"/>
              <a:ext cx="698760" cy="87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4" name="图片 9" descr="2.png"/>
            <p:cNvPicPr/>
            <p:nvPr/>
          </p:nvPicPr>
          <p:blipFill>
            <a:blip r:embed="rId32"/>
            <a:stretch/>
          </p:blipFill>
          <p:spPr>
            <a:xfrm>
              <a:off x="4973760" y="4614480"/>
              <a:ext cx="696600" cy="87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5" name="图片 10" descr="2.png"/>
            <p:cNvPicPr/>
            <p:nvPr/>
          </p:nvPicPr>
          <p:blipFill>
            <a:blip r:embed="rId33"/>
            <a:stretch/>
          </p:blipFill>
          <p:spPr>
            <a:xfrm>
              <a:off x="4394160" y="4614480"/>
              <a:ext cx="698760" cy="87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6" name="图片 9" descr="2.png"/>
            <p:cNvPicPr/>
            <p:nvPr/>
          </p:nvPicPr>
          <p:blipFill>
            <a:blip r:embed="rId34"/>
            <a:stretch/>
          </p:blipFill>
          <p:spPr>
            <a:xfrm>
              <a:off x="4973760" y="4012920"/>
              <a:ext cx="696600" cy="870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17" name="组合 91"/>
          <p:cNvGrpSpPr/>
          <p:nvPr/>
        </p:nvGrpSpPr>
        <p:grpSpPr>
          <a:xfrm>
            <a:off x="5837400" y="3543480"/>
            <a:ext cx="1725480" cy="2185920"/>
            <a:chOff x="5837400" y="3543480"/>
            <a:chExt cx="1725480" cy="2185920"/>
          </a:xfrm>
        </p:grpSpPr>
        <p:pic>
          <p:nvPicPr>
            <p:cNvPr id="818" name="图片 33" descr="9.png"/>
            <p:cNvPicPr/>
            <p:nvPr/>
          </p:nvPicPr>
          <p:blipFill>
            <a:blip r:embed="rId35"/>
            <a:stretch/>
          </p:blipFill>
          <p:spPr>
            <a:xfrm>
              <a:off x="5837400" y="3543480"/>
              <a:ext cx="1725480" cy="218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9" name="图片 8" descr="2.png"/>
            <p:cNvPicPr/>
            <p:nvPr/>
          </p:nvPicPr>
          <p:blipFill>
            <a:blip r:embed="rId36"/>
            <a:stretch/>
          </p:blipFill>
          <p:spPr>
            <a:xfrm>
              <a:off x="6033960" y="4024080"/>
              <a:ext cx="698400" cy="87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0" name="图片 9" descr="2.png"/>
            <p:cNvPicPr/>
            <p:nvPr/>
          </p:nvPicPr>
          <p:blipFill>
            <a:blip r:embed="rId37"/>
            <a:stretch/>
          </p:blipFill>
          <p:spPr>
            <a:xfrm>
              <a:off x="6613920" y="4625640"/>
              <a:ext cx="696600" cy="87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1" name="图片 10" descr="2.png"/>
            <p:cNvPicPr/>
            <p:nvPr/>
          </p:nvPicPr>
          <p:blipFill>
            <a:blip r:embed="rId38"/>
            <a:stretch/>
          </p:blipFill>
          <p:spPr>
            <a:xfrm>
              <a:off x="6033960" y="4625640"/>
              <a:ext cx="698400" cy="87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2" name="图片 9" descr="2.png"/>
            <p:cNvPicPr/>
            <p:nvPr/>
          </p:nvPicPr>
          <p:blipFill>
            <a:blip r:embed="rId39"/>
            <a:stretch/>
          </p:blipFill>
          <p:spPr>
            <a:xfrm>
              <a:off x="6613920" y="4024080"/>
              <a:ext cx="696600" cy="870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23" name="文本框 5"/>
          <p:cNvSpPr/>
          <p:nvPr/>
        </p:nvSpPr>
        <p:spPr>
          <a:xfrm>
            <a:off x="479520" y="4894200"/>
            <a:ext cx="153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个苹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4" name="Picture 2" descr=""/>
          <p:cNvPicPr/>
          <p:nvPr/>
        </p:nvPicPr>
        <p:blipFill>
          <a:blip r:embed="rId40"/>
          <a:stretch/>
        </p:blipFill>
        <p:spPr>
          <a:xfrm>
            <a:off x="976320" y="220680"/>
            <a:ext cx="6983280" cy="56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5" name="Picture 2" descr="10"/>
          <p:cNvPicPr/>
          <p:nvPr/>
        </p:nvPicPr>
        <p:blipFill>
          <a:blip r:embed="rId1"/>
          <a:stretch/>
        </p:blipFill>
        <p:spPr>
          <a:xfrm>
            <a:off x="857160" y="857160"/>
            <a:ext cx="1594080" cy="782640"/>
          </a:xfrm>
          <a:prstGeom prst="rect">
            <a:avLst/>
          </a:prstGeom>
          <a:ln w="0">
            <a:noFill/>
          </a:ln>
        </p:spPr>
      </p:pic>
      <p:sp>
        <p:nvSpPr>
          <p:cNvPr id="826" name="TextBox 4"/>
          <p:cNvSpPr/>
          <p:nvPr/>
        </p:nvSpPr>
        <p:spPr>
          <a:xfrm>
            <a:off x="500040" y="1643040"/>
            <a:ext cx="78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7" name="图片 13" descr="7.png"/>
          <p:cNvPicPr/>
          <p:nvPr/>
        </p:nvPicPr>
        <p:blipFill>
          <a:blip r:embed="rId2"/>
          <a:stretch/>
        </p:blipFill>
        <p:spPr>
          <a:xfrm>
            <a:off x="1285920" y="1357200"/>
            <a:ext cx="6407280" cy="3340080"/>
          </a:xfrm>
          <a:prstGeom prst="rect">
            <a:avLst/>
          </a:prstGeom>
          <a:ln w="0">
            <a:noFill/>
          </a:ln>
        </p:spPr>
      </p:pic>
      <p:grpSp>
        <p:nvGrpSpPr>
          <p:cNvPr id="828" name="组合 16"/>
          <p:cNvGrpSpPr/>
          <p:nvPr/>
        </p:nvGrpSpPr>
        <p:grpSpPr>
          <a:xfrm>
            <a:off x="857160" y="4697280"/>
            <a:ext cx="7529760" cy="581400"/>
            <a:chOff x="857160" y="4697280"/>
            <a:chExt cx="7529760" cy="581400"/>
          </a:xfrm>
        </p:grpSpPr>
        <p:sp>
          <p:nvSpPr>
            <p:cNvPr id="829" name="TextBox 4"/>
            <p:cNvSpPr/>
            <p:nvPr/>
          </p:nvSpPr>
          <p:spPr>
            <a:xfrm>
              <a:off x="857160" y="4697280"/>
              <a:ext cx="7529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需要   只小兔才能一次运走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圆角矩形 15"/>
            <p:cNvSpPr/>
            <p:nvPr/>
          </p:nvSpPr>
          <p:spPr>
            <a:xfrm>
              <a:off x="1812600" y="4727160"/>
              <a:ext cx="539640" cy="541800"/>
            </a:xfrm>
            <a:custGeom>
              <a:avLst/>
              <a:gdLst>
                <a:gd name="textAreaLeft" fmla="*/ 26280 w 539640"/>
                <a:gd name="textAreaRight" fmla="*/ 513360 w 539640"/>
                <a:gd name="textAreaTop" fmla="*/ 26280 h 541800"/>
                <a:gd name="textAreaBottom" fmla="*/ 515520 h 541800"/>
              </a:gdLst>
              <a:ahLst/>
              <a:rect l="textAreaLeft" t="textAreaTop" r="textAreaRight" b="textAreaBottom"/>
              <a:pathLst>
                <a:path w="21600" h="21686">
                  <a:moveTo>
                    <a:pt x="3600" y="0"/>
                  </a:moveTo>
                  <a:arcTo wR="3600" hR="3600" stAng="16200000" swAng="-5400000"/>
                  <a:lnTo>
                    <a:pt x="0" y="18086"/>
                  </a:lnTo>
                  <a:arcTo wR="3600" hR="3600" stAng="10800000" swAng="-5400000"/>
                  <a:lnTo>
                    <a:pt x="18000" y="2168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1" name="任意多边形 17"/>
          <p:cNvSpPr/>
          <p:nvPr/>
        </p:nvSpPr>
        <p:spPr>
          <a:xfrm>
            <a:off x="1947960" y="3503520"/>
            <a:ext cx="1197000" cy="887400"/>
          </a:xfrm>
          <a:custGeom>
            <a:avLst/>
            <a:gdLst/>
            <a:ahLst/>
            <a:rect l="l" t="t" r="r" b="b"/>
            <a:pathLst>
              <a:path w="1197607" h="887259">
                <a:moveTo>
                  <a:pt x="142162" y="118753"/>
                </a:moveTo>
                <a:cubicBezTo>
                  <a:pt x="66968" y="137551"/>
                  <a:pt x="103715" y="117048"/>
                  <a:pt x="47160" y="201880"/>
                </a:cubicBezTo>
                <a:lnTo>
                  <a:pt x="23409" y="237506"/>
                </a:lnTo>
                <a:cubicBezTo>
                  <a:pt x="0" y="307735"/>
                  <a:pt x="2395" y="284683"/>
                  <a:pt x="23409" y="403761"/>
                </a:cubicBezTo>
                <a:cubicBezTo>
                  <a:pt x="27760" y="428415"/>
                  <a:pt x="39243" y="451262"/>
                  <a:pt x="47160" y="475013"/>
                </a:cubicBezTo>
                <a:cubicBezTo>
                  <a:pt x="56819" y="503990"/>
                  <a:pt x="59764" y="523243"/>
                  <a:pt x="82786" y="546265"/>
                </a:cubicBezTo>
                <a:cubicBezTo>
                  <a:pt x="96781" y="560260"/>
                  <a:pt x="115260" y="569010"/>
                  <a:pt x="130287" y="581891"/>
                </a:cubicBezTo>
                <a:cubicBezTo>
                  <a:pt x="197687" y="639662"/>
                  <a:pt x="130594" y="599858"/>
                  <a:pt x="213414" y="641267"/>
                </a:cubicBezTo>
                <a:cubicBezTo>
                  <a:pt x="221331" y="653142"/>
                  <a:pt x="227073" y="666801"/>
                  <a:pt x="237165" y="676893"/>
                </a:cubicBezTo>
                <a:cubicBezTo>
                  <a:pt x="260187" y="699915"/>
                  <a:pt x="279440" y="702860"/>
                  <a:pt x="308417" y="712519"/>
                </a:cubicBezTo>
                <a:cubicBezTo>
                  <a:pt x="410517" y="780586"/>
                  <a:pt x="281337" y="698979"/>
                  <a:pt x="379669" y="748145"/>
                </a:cubicBezTo>
                <a:cubicBezTo>
                  <a:pt x="392435" y="754528"/>
                  <a:pt x="402529" y="765513"/>
                  <a:pt x="415295" y="771896"/>
                </a:cubicBezTo>
                <a:cubicBezTo>
                  <a:pt x="434272" y="781384"/>
                  <a:pt x="480673" y="790576"/>
                  <a:pt x="498422" y="795647"/>
                </a:cubicBezTo>
                <a:cubicBezTo>
                  <a:pt x="510458" y="799086"/>
                  <a:pt x="521904" y="804486"/>
                  <a:pt x="534048" y="807522"/>
                </a:cubicBezTo>
                <a:cubicBezTo>
                  <a:pt x="553629" y="812417"/>
                  <a:pt x="573951" y="814086"/>
                  <a:pt x="593424" y="819397"/>
                </a:cubicBezTo>
                <a:cubicBezTo>
                  <a:pt x="617577" y="825984"/>
                  <a:pt x="640925" y="835231"/>
                  <a:pt x="664676" y="843148"/>
                </a:cubicBezTo>
                <a:cubicBezTo>
                  <a:pt x="676551" y="847106"/>
                  <a:pt x="687955" y="852965"/>
                  <a:pt x="700302" y="855023"/>
                </a:cubicBezTo>
                <a:lnTo>
                  <a:pt x="771554" y="866898"/>
                </a:lnTo>
                <a:cubicBezTo>
                  <a:pt x="783429" y="870857"/>
                  <a:pt x="794662" y="878774"/>
                  <a:pt x="807180" y="878774"/>
                </a:cubicBezTo>
                <a:cubicBezTo>
                  <a:pt x="995722" y="878774"/>
                  <a:pt x="959851" y="887259"/>
                  <a:pt x="1056562" y="855023"/>
                </a:cubicBezTo>
                <a:cubicBezTo>
                  <a:pt x="1087302" y="824283"/>
                  <a:pt x="1125483" y="790760"/>
                  <a:pt x="1139689" y="748145"/>
                </a:cubicBezTo>
                <a:cubicBezTo>
                  <a:pt x="1143648" y="736270"/>
                  <a:pt x="1145967" y="723715"/>
                  <a:pt x="1151565" y="712519"/>
                </a:cubicBezTo>
                <a:cubicBezTo>
                  <a:pt x="1197607" y="620436"/>
                  <a:pt x="1157340" y="730814"/>
                  <a:pt x="1187191" y="641267"/>
                </a:cubicBezTo>
                <a:cubicBezTo>
                  <a:pt x="1183232" y="597724"/>
                  <a:pt x="1181094" y="553978"/>
                  <a:pt x="1175315" y="510639"/>
                </a:cubicBezTo>
                <a:cubicBezTo>
                  <a:pt x="1173158" y="494461"/>
                  <a:pt x="1165922" y="479268"/>
                  <a:pt x="1163440" y="463137"/>
                </a:cubicBezTo>
                <a:cubicBezTo>
                  <a:pt x="1157990" y="427709"/>
                  <a:pt x="1163815" y="389947"/>
                  <a:pt x="1151565" y="356260"/>
                </a:cubicBezTo>
                <a:cubicBezTo>
                  <a:pt x="1146688" y="342847"/>
                  <a:pt x="1127814" y="340426"/>
                  <a:pt x="1115939" y="332509"/>
                </a:cubicBezTo>
                <a:cubicBezTo>
                  <a:pt x="1108022" y="320634"/>
                  <a:pt x="1102280" y="306975"/>
                  <a:pt x="1092188" y="296883"/>
                </a:cubicBezTo>
                <a:cubicBezTo>
                  <a:pt x="1069166" y="273861"/>
                  <a:pt x="1049913" y="270916"/>
                  <a:pt x="1020936" y="261257"/>
                </a:cubicBezTo>
                <a:cubicBezTo>
                  <a:pt x="997583" y="226226"/>
                  <a:pt x="995849" y="218580"/>
                  <a:pt x="961560" y="190005"/>
                </a:cubicBezTo>
                <a:cubicBezTo>
                  <a:pt x="950596" y="180868"/>
                  <a:pt x="936898" y="175391"/>
                  <a:pt x="925934" y="166254"/>
                </a:cubicBezTo>
                <a:cubicBezTo>
                  <a:pt x="913032" y="155503"/>
                  <a:pt x="904890" y="138960"/>
                  <a:pt x="890308" y="130628"/>
                </a:cubicBezTo>
                <a:cubicBezTo>
                  <a:pt x="876137" y="122530"/>
                  <a:pt x="858640" y="122711"/>
                  <a:pt x="842806" y="118753"/>
                </a:cubicBezTo>
                <a:cubicBezTo>
                  <a:pt x="815097" y="98961"/>
                  <a:pt x="788878" y="76896"/>
                  <a:pt x="759679" y="59376"/>
                </a:cubicBezTo>
                <a:cubicBezTo>
                  <a:pt x="693305" y="19552"/>
                  <a:pt x="684184" y="18378"/>
                  <a:pt x="629050" y="0"/>
                </a:cubicBezTo>
                <a:lnTo>
                  <a:pt x="379669" y="11875"/>
                </a:lnTo>
                <a:cubicBezTo>
                  <a:pt x="237604" y="20485"/>
                  <a:pt x="278993" y="9806"/>
                  <a:pt x="201539" y="35626"/>
                </a:cubicBezTo>
                <a:cubicBezTo>
                  <a:pt x="182537" y="92628"/>
                  <a:pt x="204706" y="57793"/>
                  <a:pt x="154037" y="83127"/>
                </a:cubicBezTo>
                <a:cubicBezTo>
                  <a:pt x="141271" y="89510"/>
                  <a:pt x="118411" y="106878"/>
                  <a:pt x="142162" y="118753"/>
                </a:cubicBezTo>
                <a:close/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任意多边形 18"/>
          <p:cNvSpPr/>
          <p:nvPr/>
        </p:nvSpPr>
        <p:spPr>
          <a:xfrm>
            <a:off x="2819520" y="3371760"/>
            <a:ext cx="1393560" cy="1100160"/>
          </a:xfrm>
          <a:custGeom>
            <a:avLst/>
            <a:gdLst/>
            <a:ahLst/>
            <a:rect l="l" t="t" r="r" b="b"/>
            <a:pathLst>
              <a:path w="1392392" h="1099032">
                <a:moveTo>
                  <a:pt x="1312452" y="1068779"/>
                </a:moveTo>
                <a:cubicBezTo>
                  <a:pt x="1257034" y="1066800"/>
                  <a:pt x="1266452" y="1088850"/>
                  <a:pt x="1015569" y="1068779"/>
                </a:cubicBezTo>
                <a:cubicBezTo>
                  <a:pt x="1003091" y="1067781"/>
                  <a:pt x="991979" y="1060343"/>
                  <a:pt x="979943" y="1056904"/>
                </a:cubicBezTo>
                <a:cubicBezTo>
                  <a:pt x="964250" y="1052420"/>
                  <a:pt x="948541" y="1047712"/>
                  <a:pt x="932442" y="1045029"/>
                </a:cubicBezTo>
                <a:cubicBezTo>
                  <a:pt x="900962" y="1039782"/>
                  <a:pt x="869107" y="1037112"/>
                  <a:pt x="837439" y="1033153"/>
                </a:cubicBezTo>
                <a:cubicBezTo>
                  <a:pt x="739633" y="1000552"/>
                  <a:pt x="790971" y="1012944"/>
                  <a:pt x="683060" y="997527"/>
                </a:cubicBezTo>
                <a:cubicBezTo>
                  <a:pt x="654016" y="983006"/>
                  <a:pt x="625115" y="971011"/>
                  <a:pt x="599933" y="950026"/>
                </a:cubicBezTo>
                <a:cubicBezTo>
                  <a:pt x="508511" y="873840"/>
                  <a:pt x="617121" y="949609"/>
                  <a:pt x="528681" y="890650"/>
                </a:cubicBezTo>
                <a:cubicBezTo>
                  <a:pt x="520764" y="874816"/>
                  <a:pt x="515989" y="856972"/>
                  <a:pt x="504930" y="843148"/>
                </a:cubicBezTo>
                <a:cubicBezTo>
                  <a:pt x="483947" y="816920"/>
                  <a:pt x="433678" y="771896"/>
                  <a:pt x="433678" y="771896"/>
                </a:cubicBezTo>
                <a:cubicBezTo>
                  <a:pt x="403830" y="682349"/>
                  <a:pt x="444093" y="792727"/>
                  <a:pt x="398052" y="700644"/>
                </a:cubicBezTo>
                <a:cubicBezTo>
                  <a:pt x="392454" y="689448"/>
                  <a:pt x="391775" y="676214"/>
                  <a:pt x="386177" y="665018"/>
                </a:cubicBezTo>
                <a:cubicBezTo>
                  <a:pt x="369644" y="631953"/>
                  <a:pt x="353063" y="620029"/>
                  <a:pt x="326800" y="593766"/>
                </a:cubicBezTo>
                <a:cubicBezTo>
                  <a:pt x="322842" y="581891"/>
                  <a:pt x="318364" y="570176"/>
                  <a:pt x="314925" y="558140"/>
                </a:cubicBezTo>
                <a:cubicBezTo>
                  <a:pt x="306474" y="528562"/>
                  <a:pt x="306080" y="496438"/>
                  <a:pt x="279299" y="475013"/>
                </a:cubicBezTo>
                <a:cubicBezTo>
                  <a:pt x="269524" y="467193"/>
                  <a:pt x="255548" y="467096"/>
                  <a:pt x="243673" y="463138"/>
                </a:cubicBezTo>
                <a:cubicBezTo>
                  <a:pt x="221175" y="395647"/>
                  <a:pt x="240649" y="436365"/>
                  <a:pt x="160545" y="356260"/>
                </a:cubicBezTo>
                <a:lnTo>
                  <a:pt x="124920" y="320634"/>
                </a:lnTo>
                <a:cubicBezTo>
                  <a:pt x="120961" y="308759"/>
                  <a:pt x="118642" y="296204"/>
                  <a:pt x="113044" y="285008"/>
                </a:cubicBezTo>
                <a:cubicBezTo>
                  <a:pt x="99698" y="258317"/>
                  <a:pt x="76181" y="232517"/>
                  <a:pt x="53668" y="213756"/>
                </a:cubicBezTo>
                <a:cubicBezTo>
                  <a:pt x="42704" y="204619"/>
                  <a:pt x="29917" y="197922"/>
                  <a:pt x="18042" y="190005"/>
                </a:cubicBezTo>
                <a:cubicBezTo>
                  <a:pt x="0" y="135882"/>
                  <a:pt x="1322" y="158367"/>
                  <a:pt x="18042" y="83127"/>
                </a:cubicBezTo>
                <a:cubicBezTo>
                  <a:pt x="20757" y="70908"/>
                  <a:pt x="21066" y="56353"/>
                  <a:pt x="29917" y="47502"/>
                </a:cubicBezTo>
                <a:cubicBezTo>
                  <a:pt x="50101" y="27318"/>
                  <a:pt x="101169" y="0"/>
                  <a:pt x="101169" y="0"/>
                </a:cubicBezTo>
                <a:cubicBezTo>
                  <a:pt x="144712" y="3959"/>
                  <a:pt x="189045" y="2715"/>
                  <a:pt x="231797" y="11876"/>
                </a:cubicBezTo>
                <a:cubicBezTo>
                  <a:pt x="328947" y="32694"/>
                  <a:pt x="198750" y="52793"/>
                  <a:pt x="314925" y="23751"/>
                </a:cubicBezTo>
                <a:cubicBezTo>
                  <a:pt x="350551" y="27709"/>
                  <a:pt x="386445" y="29733"/>
                  <a:pt x="421803" y="35626"/>
                </a:cubicBezTo>
                <a:cubicBezTo>
                  <a:pt x="466574" y="43088"/>
                  <a:pt x="452025" y="50737"/>
                  <a:pt x="493055" y="71252"/>
                </a:cubicBezTo>
                <a:cubicBezTo>
                  <a:pt x="504251" y="76850"/>
                  <a:pt x="516806" y="79169"/>
                  <a:pt x="528681" y="83127"/>
                </a:cubicBezTo>
                <a:cubicBezTo>
                  <a:pt x="596743" y="185223"/>
                  <a:pt x="506117" y="65076"/>
                  <a:pt x="588057" y="130629"/>
                </a:cubicBezTo>
                <a:cubicBezTo>
                  <a:pt x="599202" y="139545"/>
                  <a:pt x="600663" y="157339"/>
                  <a:pt x="611808" y="166255"/>
                </a:cubicBezTo>
                <a:cubicBezTo>
                  <a:pt x="621583" y="174075"/>
                  <a:pt x="635928" y="173199"/>
                  <a:pt x="647434" y="178130"/>
                </a:cubicBezTo>
                <a:cubicBezTo>
                  <a:pt x="663705" y="185103"/>
                  <a:pt x="679101" y="193964"/>
                  <a:pt x="694935" y="201881"/>
                </a:cubicBezTo>
                <a:cubicBezTo>
                  <a:pt x="750353" y="285008"/>
                  <a:pt x="718685" y="257300"/>
                  <a:pt x="778062" y="296883"/>
                </a:cubicBezTo>
                <a:cubicBezTo>
                  <a:pt x="845356" y="397823"/>
                  <a:pt x="734519" y="241465"/>
                  <a:pt x="873065" y="380011"/>
                </a:cubicBezTo>
                <a:cubicBezTo>
                  <a:pt x="884940" y="391886"/>
                  <a:pt x="897940" y="402735"/>
                  <a:pt x="908691" y="415637"/>
                </a:cubicBezTo>
                <a:cubicBezTo>
                  <a:pt x="917828" y="426601"/>
                  <a:pt x="921297" y="442347"/>
                  <a:pt x="932442" y="451263"/>
                </a:cubicBezTo>
                <a:cubicBezTo>
                  <a:pt x="942217" y="459083"/>
                  <a:pt x="956193" y="459180"/>
                  <a:pt x="968068" y="463138"/>
                </a:cubicBezTo>
                <a:cubicBezTo>
                  <a:pt x="975985" y="475013"/>
                  <a:pt x="981726" y="488672"/>
                  <a:pt x="991818" y="498764"/>
                </a:cubicBezTo>
                <a:cubicBezTo>
                  <a:pt x="1001910" y="508856"/>
                  <a:pt x="1018528" y="511369"/>
                  <a:pt x="1027444" y="522514"/>
                </a:cubicBezTo>
                <a:cubicBezTo>
                  <a:pt x="1035264" y="532289"/>
                  <a:pt x="1035361" y="546265"/>
                  <a:pt x="1039320" y="558140"/>
                </a:cubicBezTo>
                <a:cubicBezTo>
                  <a:pt x="1031497" y="581608"/>
                  <a:pt x="1024620" y="612651"/>
                  <a:pt x="1003694" y="629392"/>
                </a:cubicBezTo>
                <a:cubicBezTo>
                  <a:pt x="993919" y="637212"/>
                  <a:pt x="979943" y="637309"/>
                  <a:pt x="968068" y="641268"/>
                </a:cubicBezTo>
                <a:cubicBezTo>
                  <a:pt x="960151" y="653143"/>
                  <a:pt x="941518" y="662899"/>
                  <a:pt x="944317" y="676894"/>
                </a:cubicBezTo>
                <a:cubicBezTo>
                  <a:pt x="947116" y="690889"/>
                  <a:pt x="966901" y="694848"/>
                  <a:pt x="979943" y="700644"/>
                </a:cubicBezTo>
                <a:cubicBezTo>
                  <a:pt x="979958" y="700651"/>
                  <a:pt x="1069000" y="730330"/>
                  <a:pt x="1086821" y="736270"/>
                </a:cubicBezTo>
                <a:cubicBezTo>
                  <a:pt x="1098696" y="740229"/>
                  <a:pt x="1110006" y="746764"/>
                  <a:pt x="1122447" y="748146"/>
                </a:cubicBezTo>
                <a:lnTo>
                  <a:pt x="1229325" y="760021"/>
                </a:lnTo>
                <a:cubicBezTo>
                  <a:pt x="1241200" y="763979"/>
                  <a:pt x="1253755" y="766298"/>
                  <a:pt x="1264951" y="771896"/>
                </a:cubicBezTo>
                <a:cubicBezTo>
                  <a:pt x="1298016" y="788429"/>
                  <a:pt x="1309940" y="805010"/>
                  <a:pt x="1336203" y="831273"/>
                </a:cubicBezTo>
                <a:cubicBezTo>
                  <a:pt x="1365824" y="920139"/>
                  <a:pt x="1392392" y="969869"/>
                  <a:pt x="1348078" y="1080655"/>
                </a:cubicBezTo>
                <a:cubicBezTo>
                  <a:pt x="1340727" y="1099032"/>
                  <a:pt x="1367870" y="1070758"/>
                  <a:pt x="1312452" y="1068779"/>
                </a:cubicBezTo>
                <a:close/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任意多边形 19"/>
          <p:cNvSpPr/>
          <p:nvPr/>
        </p:nvSpPr>
        <p:spPr>
          <a:xfrm>
            <a:off x="3681360" y="3322800"/>
            <a:ext cx="1244520" cy="847440"/>
          </a:xfrm>
          <a:custGeom>
            <a:avLst/>
            <a:gdLst/>
            <a:ahLst/>
            <a:rect l="l" t="t" r="r" b="b"/>
            <a:pathLst>
              <a:path w="1244139" h="848633">
                <a:moveTo>
                  <a:pt x="617517" y="3181"/>
                </a:moveTo>
                <a:cubicBezTo>
                  <a:pt x="516577" y="3181"/>
                  <a:pt x="284372" y="0"/>
                  <a:pt x="118753" y="15056"/>
                </a:cubicBezTo>
                <a:cubicBezTo>
                  <a:pt x="104539" y="16348"/>
                  <a:pt x="104139" y="39718"/>
                  <a:pt x="95002" y="50682"/>
                </a:cubicBezTo>
                <a:cubicBezTo>
                  <a:pt x="84251" y="63584"/>
                  <a:pt x="71251" y="74433"/>
                  <a:pt x="59376" y="86308"/>
                </a:cubicBezTo>
                <a:cubicBezTo>
                  <a:pt x="55418" y="98183"/>
                  <a:pt x="53099" y="110738"/>
                  <a:pt x="47501" y="121934"/>
                </a:cubicBezTo>
                <a:cubicBezTo>
                  <a:pt x="41118" y="134700"/>
                  <a:pt x="29372" y="144442"/>
                  <a:pt x="23750" y="157560"/>
                </a:cubicBezTo>
                <a:cubicBezTo>
                  <a:pt x="11752" y="185555"/>
                  <a:pt x="2752" y="268928"/>
                  <a:pt x="0" y="288189"/>
                </a:cubicBezTo>
                <a:cubicBezTo>
                  <a:pt x="3958" y="319856"/>
                  <a:pt x="23" y="353560"/>
                  <a:pt x="11875" y="383191"/>
                </a:cubicBezTo>
                <a:cubicBezTo>
                  <a:pt x="17176" y="396443"/>
                  <a:pt x="37409" y="396850"/>
                  <a:pt x="47501" y="406942"/>
                </a:cubicBezTo>
                <a:cubicBezTo>
                  <a:pt x="101215" y="460656"/>
                  <a:pt x="37522" y="431325"/>
                  <a:pt x="106878" y="454443"/>
                </a:cubicBezTo>
                <a:cubicBezTo>
                  <a:pt x="122712" y="478194"/>
                  <a:pt x="145352" y="498615"/>
                  <a:pt x="154379" y="525695"/>
                </a:cubicBezTo>
                <a:cubicBezTo>
                  <a:pt x="182643" y="610487"/>
                  <a:pt x="164243" y="576116"/>
                  <a:pt x="201880" y="632573"/>
                </a:cubicBezTo>
                <a:cubicBezTo>
                  <a:pt x="173617" y="717365"/>
                  <a:pt x="198961" y="689938"/>
                  <a:pt x="142504" y="727576"/>
                </a:cubicBezTo>
                <a:cubicBezTo>
                  <a:pt x="204501" y="768906"/>
                  <a:pt x="150591" y="739498"/>
                  <a:pt x="237506" y="763202"/>
                </a:cubicBezTo>
                <a:cubicBezTo>
                  <a:pt x="261659" y="769789"/>
                  <a:pt x="285007" y="779035"/>
                  <a:pt x="308758" y="786952"/>
                </a:cubicBezTo>
                <a:cubicBezTo>
                  <a:pt x="320633" y="790910"/>
                  <a:pt x="332240" y="795792"/>
                  <a:pt x="344384" y="798828"/>
                </a:cubicBezTo>
                <a:cubicBezTo>
                  <a:pt x="360218" y="802786"/>
                  <a:pt x="376252" y="806013"/>
                  <a:pt x="391885" y="810703"/>
                </a:cubicBezTo>
                <a:cubicBezTo>
                  <a:pt x="415865" y="817897"/>
                  <a:pt x="438442" y="830338"/>
                  <a:pt x="463137" y="834454"/>
                </a:cubicBezTo>
                <a:lnTo>
                  <a:pt x="534389" y="846329"/>
                </a:lnTo>
                <a:cubicBezTo>
                  <a:pt x="585849" y="842371"/>
                  <a:pt x="639142" y="848633"/>
                  <a:pt x="688768" y="834454"/>
                </a:cubicBezTo>
                <a:cubicBezTo>
                  <a:pt x="700804" y="831015"/>
                  <a:pt x="699511" y="811294"/>
                  <a:pt x="700644" y="798828"/>
                </a:cubicBezTo>
                <a:cubicBezTo>
                  <a:pt x="707463" y="723823"/>
                  <a:pt x="688702" y="644646"/>
                  <a:pt x="712519" y="573196"/>
                </a:cubicBezTo>
                <a:cubicBezTo>
                  <a:pt x="720436" y="549445"/>
                  <a:pt x="760020" y="557363"/>
                  <a:pt x="783771" y="549446"/>
                </a:cubicBezTo>
                <a:lnTo>
                  <a:pt x="819397" y="537571"/>
                </a:lnTo>
                <a:lnTo>
                  <a:pt x="890649" y="490069"/>
                </a:lnTo>
                <a:cubicBezTo>
                  <a:pt x="956098" y="446436"/>
                  <a:pt x="912096" y="467895"/>
                  <a:pt x="1033153" y="454443"/>
                </a:cubicBezTo>
                <a:cubicBezTo>
                  <a:pt x="1045028" y="450485"/>
                  <a:pt x="1056371" y="444222"/>
                  <a:pt x="1068779" y="442568"/>
                </a:cubicBezTo>
                <a:cubicBezTo>
                  <a:pt x="1116027" y="436268"/>
                  <a:pt x="1183095" y="469131"/>
                  <a:pt x="1211283" y="430693"/>
                </a:cubicBezTo>
                <a:cubicBezTo>
                  <a:pt x="1244139" y="385889"/>
                  <a:pt x="1219544" y="316220"/>
                  <a:pt x="1199407" y="264438"/>
                </a:cubicBezTo>
                <a:cubicBezTo>
                  <a:pt x="1189061" y="237834"/>
                  <a:pt x="1148339" y="237121"/>
                  <a:pt x="1128155" y="216937"/>
                </a:cubicBezTo>
                <a:cubicBezTo>
                  <a:pt x="1116280" y="205062"/>
                  <a:pt x="1102291" y="194977"/>
                  <a:pt x="1092530" y="181311"/>
                </a:cubicBezTo>
                <a:cubicBezTo>
                  <a:pt x="1082241" y="166905"/>
                  <a:pt x="1084613" y="141726"/>
                  <a:pt x="1068779" y="133809"/>
                </a:cubicBezTo>
                <a:cubicBezTo>
                  <a:pt x="1040234" y="119537"/>
                  <a:pt x="1005444" y="125892"/>
                  <a:pt x="973776" y="121934"/>
                </a:cubicBezTo>
                <a:cubicBezTo>
                  <a:pt x="843849" y="78626"/>
                  <a:pt x="1040648" y="147696"/>
                  <a:pt x="902524" y="86308"/>
                </a:cubicBezTo>
                <a:cubicBezTo>
                  <a:pt x="879646" y="76140"/>
                  <a:pt x="855023" y="70475"/>
                  <a:pt x="831272" y="62558"/>
                </a:cubicBezTo>
                <a:cubicBezTo>
                  <a:pt x="819397" y="58600"/>
                  <a:pt x="806062" y="57625"/>
                  <a:pt x="795646" y="50682"/>
                </a:cubicBezTo>
                <a:cubicBezTo>
                  <a:pt x="783771" y="42765"/>
                  <a:pt x="772785" y="33315"/>
                  <a:pt x="760020" y="26932"/>
                </a:cubicBezTo>
                <a:cubicBezTo>
                  <a:pt x="748824" y="21334"/>
                  <a:pt x="736538" y="18092"/>
                  <a:pt x="724394" y="15056"/>
                </a:cubicBezTo>
                <a:cubicBezTo>
                  <a:pt x="667580" y="852"/>
                  <a:pt x="718457" y="3181"/>
                  <a:pt x="617517" y="3181"/>
                </a:cubicBezTo>
                <a:close/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任意多边形 20"/>
          <p:cNvSpPr/>
          <p:nvPr/>
        </p:nvSpPr>
        <p:spPr>
          <a:xfrm>
            <a:off x="4392720" y="3770280"/>
            <a:ext cx="1206360" cy="836640"/>
          </a:xfrm>
          <a:custGeom>
            <a:avLst/>
            <a:gdLst/>
            <a:ahLst/>
            <a:rect l="l" t="t" r="r" b="b"/>
            <a:pathLst>
              <a:path w="1205827" h="837591">
                <a:moveTo>
                  <a:pt x="1199889" y="683212"/>
                </a:moveTo>
                <a:cubicBezTo>
                  <a:pt x="1205827" y="657482"/>
                  <a:pt x="1193504" y="627531"/>
                  <a:pt x="1188014" y="600084"/>
                </a:cubicBezTo>
                <a:cubicBezTo>
                  <a:pt x="1185559" y="587810"/>
                  <a:pt x="1177384" y="576914"/>
                  <a:pt x="1176138" y="564459"/>
                </a:cubicBezTo>
                <a:cubicBezTo>
                  <a:pt x="1169430" y="497384"/>
                  <a:pt x="1172982" y="429422"/>
                  <a:pt x="1164263" y="362578"/>
                </a:cubicBezTo>
                <a:cubicBezTo>
                  <a:pt x="1161025" y="337753"/>
                  <a:pt x="1161343" y="305213"/>
                  <a:pt x="1140512" y="291326"/>
                </a:cubicBezTo>
                <a:lnTo>
                  <a:pt x="1033634" y="220074"/>
                </a:lnTo>
                <a:lnTo>
                  <a:pt x="962382" y="172573"/>
                </a:lnTo>
                <a:cubicBezTo>
                  <a:pt x="938631" y="164656"/>
                  <a:pt x="915418" y="154894"/>
                  <a:pt x="891130" y="148822"/>
                </a:cubicBezTo>
                <a:cubicBezTo>
                  <a:pt x="875296" y="144864"/>
                  <a:pt x="859262" y="141637"/>
                  <a:pt x="843629" y="136947"/>
                </a:cubicBezTo>
                <a:cubicBezTo>
                  <a:pt x="819649" y="129753"/>
                  <a:pt x="772377" y="113196"/>
                  <a:pt x="772377" y="113196"/>
                </a:cubicBezTo>
                <a:cubicBezTo>
                  <a:pt x="764460" y="101321"/>
                  <a:pt x="759772" y="86486"/>
                  <a:pt x="748627" y="77570"/>
                </a:cubicBezTo>
                <a:cubicBezTo>
                  <a:pt x="738852" y="69750"/>
                  <a:pt x="725276" y="68150"/>
                  <a:pt x="713001" y="65695"/>
                </a:cubicBezTo>
                <a:cubicBezTo>
                  <a:pt x="685554" y="60206"/>
                  <a:pt x="657582" y="57778"/>
                  <a:pt x="629873" y="53820"/>
                </a:cubicBezTo>
                <a:cubicBezTo>
                  <a:pt x="468416" y="0"/>
                  <a:pt x="583635" y="29027"/>
                  <a:pt x="273614" y="41944"/>
                </a:cubicBezTo>
                <a:lnTo>
                  <a:pt x="202362" y="65695"/>
                </a:lnTo>
                <a:lnTo>
                  <a:pt x="166736" y="77570"/>
                </a:lnTo>
                <a:cubicBezTo>
                  <a:pt x="131696" y="130129"/>
                  <a:pt x="159388" y="105900"/>
                  <a:pt x="95484" y="125071"/>
                </a:cubicBezTo>
                <a:cubicBezTo>
                  <a:pt x="71504" y="132265"/>
                  <a:pt x="24232" y="148822"/>
                  <a:pt x="24232" y="148822"/>
                </a:cubicBezTo>
                <a:cubicBezTo>
                  <a:pt x="16315" y="160697"/>
                  <a:pt x="1901" y="170246"/>
                  <a:pt x="481" y="184448"/>
                </a:cubicBezTo>
                <a:cubicBezTo>
                  <a:pt x="0" y="189262"/>
                  <a:pt x="9822" y="281586"/>
                  <a:pt x="24232" y="303201"/>
                </a:cubicBezTo>
                <a:cubicBezTo>
                  <a:pt x="33548" y="317175"/>
                  <a:pt x="47983" y="326952"/>
                  <a:pt x="59858" y="338827"/>
                </a:cubicBezTo>
                <a:lnTo>
                  <a:pt x="83608" y="410079"/>
                </a:lnTo>
                <a:cubicBezTo>
                  <a:pt x="87566" y="421954"/>
                  <a:pt x="85069" y="438761"/>
                  <a:pt x="95484" y="445705"/>
                </a:cubicBezTo>
                <a:lnTo>
                  <a:pt x="131110" y="469456"/>
                </a:lnTo>
                <a:cubicBezTo>
                  <a:pt x="135068" y="528833"/>
                  <a:pt x="134569" y="588676"/>
                  <a:pt x="142985" y="647586"/>
                </a:cubicBezTo>
                <a:cubicBezTo>
                  <a:pt x="146526" y="672370"/>
                  <a:pt x="142985" y="710921"/>
                  <a:pt x="166736" y="718838"/>
                </a:cubicBezTo>
                <a:cubicBezTo>
                  <a:pt x="360591" y="783454"/>
                  <a:pt x="117347" y="706491"/>
                  <a:pt x="309240" y="754464"/>
                </a:cubicBezTo>
                <a:cubicBezTo>
                  <a:pt x="333528" y="760536"/>
                  <a:pt x="356741" y="770297"/>
                  <a:pt x="380492" y="778214"/>
                </a:cubicBezTo>
                <a:cubicBezTo>
                  <a:pt x="392367" y="782172"/>
                  <a:pt x="403973" y="787054"/>
                  <a:pt x="416117" y="790090"/>
                </a:cubicBezTo>
                <a:lnTo>
                  <a:pt x="463619" y="801965"/>
                </a:lnTo>
                <a:cubicBezTo>
                  <a:pt x="475494" y="809882"/>
                  <a:pt x="485399" y="822254"/>
                  <a:pt x="499245" y="825716"/>
                </a:cubicBezTo>
                <a:cubicBezTo>
                  <a:pt x="534020" y="834410"/>
                  <a:pt x="570278" y="837591"/>
                  <a:pt x="606123" y="837591"/>
                </a:cubicBezTo>
                <a:cubicBezTo>
                  <a:pt x="756596" y="837591"/>
                  <a:pt x="906964" y="829674"/>
                  <a:pt x="1057385" y="825716"/>
                </a:cubicBezTo>
                <a:cubicBezTo>
                  <a:pt x="1086359" y="816058"/>
                  <a:pt x="1105618" y="813109"/>
                  <a:pt x="1128637" y="790090"/>
                </a:cubicBezTo>
                <a:cubicBezTo>
                  <a:pt x="1138729" y="779998"/>
                  <a:pt x="1144471" y="766339"/>
                  <a:pt x="1152388" y="754464"/>
                </a:cubicBezTo>
                <a:cubicBezTo>
                  <a:pt x="1167062" y="710441"/>
                  <a:pt x="1193951" y="708942"/>
                  <a:pt x="1199889" y="683212"/>
                </a:cubicBezTo>
                <a:close/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任意多边形 21"/>
          <p:cNvSpPr/>
          <p:nvPr/>
        </p:nvSpPr>
        <p:spPr>
          <a:xfrm>
            <a:off x="5261040" y="3451320"/>
            <a:ext cx="1430280" cy="977760"/>
          </a:xfrm>
          <a:custGeom>
            <a:avLst/>
            <a:gdLst/>
            <a:ahLst/>
            <a:rect l="l" t="t" r="r" b="b"/>
            <a:pathLst>
              <a:path w="1430610" h="977942">
                <a:moveTo>
                  <a:pt x="475013" y="918565"/>
                </a:moveTo>
                <a:cubicBezTo>
                  <a:pt x="486888" y="922524"/>
                  <a:pt x="499443" y="924843"/>
                  <a:pt x="510639" y="930441"/>
                </a:cubicBezTo>
                <a:cubicBezTo>
                  <a:pt x="523404" y="936824"/>
                  <a:pt x="533147" y="948569"/>
                  <a:pt x="546265" y="954191"/>
                </a:cubicBezTo>
                <a:cubicBezTo>
                  <a:pt x="561266" y="960620"/>
                  <a:pt x="578073" y="961583"/>
                  <a:pt x="593766" y="966067"/>
                </a:cubicBezTo>
                <a:cubicBezTo>
                  <a:pt x="605802" y="969506"/>
                  <a:pt x="617517" y="973984"/>
                  <a:pt x="629392" y="977942"/>
                </a:cubicBezTo>
                <a:cubicBezTo>
                  <a:pt x="688769" y="973984"/>
                  <a:pt x="748612" y="974483"/>
                  <a:pt x="807522" y="966067"/>
                </a:cubicBezTo>
                <a:cubicBezTo>
                  <a:pt x="832306" y="962526"/>
                  <a:pt x="853932" y="945421"/>
                  <a:pt x="878774" y="942316"/>
                </a:cubicBezTo>
                <a:lnTo>
                  <a:pt x="973776" y="930441"/>
                </a:lnTo>
                <a:cubicBezTo>
                  <a:pt x="997527" y="914607"/>
                  <a:pt x="1017948" y="891967"/>
                  <a:pt x="1045028" y="882940"/>
                </a:cubicBezTo>
                <a:cubicBezTo>
                  <a:pt x="1094194" y="866550"/>
                  <a:pt x="1070238" y="878007"/>
                  <a:pt x="1116280" y="847314"/>
                </a:cubicBezTo>
                <a:cubicBezTo>
                  <a:pt x="1128155" y="827522"/>
                  <a:pt x="1136885" y="805462"/>
                  <a:pt x="1151906" y="787937"/>
                </a:cubicBezTo>
                <a:cubicBezTo>
                  <a:pt x="1161194" y="777101"/>
                  <a:pt x="1176266" y="772948"/>
                  <a:pt x="1187532" y="764186"/>
                </a:cubicBezTo>
                <a:cubicBezTo>
                  <a:pt x="1211936" y="745205"/>
                  <a:pt x="1234380" y="723791"/>
                  <a:pt x="1258784" y="704810"/>
                </a:cubicBezTo>
                <a:cubicBezTo>
                  <a:pt x="1270050" y="696048"/>
                  <a:pt x="1283446" y="690196"/>
                  <a:pt x="1294410" y="681059"/>
                </a:cubicBezTo>
                <a:cubicBezTo>
                  <a:pt x="1385846" y="604862"/>
                  <a:pt x="1277209" y="680651"/>
                  <a:pt x="1365662" y="621682"/>
                </a:cubicBezTo>
                <a:cubicBezTo>
                  <a:pt x="1430610" y="524259"/>
                  <a:pt x="1422441" y="569176"/>
                  <a:pt x="1401288" y="431677"/>
                </a:cubicBezTo>
                <a:cubicBezTo>
                  <a:pt x="1399385" y="419305"/>
                  <a:pt x="1396357" y="406466"/>
                  <a:pt x="1389413" y="396051"/>
                </a:cubicBezTo>
                <a:cubicBezTo>
                  <a:pt x="1380097" y="382077"/>
                  <a:pt x="1368468" y="368581"/>
                  <a:pt x="1353787" y="360425"/>
                </a:cubicBezTo>
                <a:cubicBezTo>
                  <a:pt x="1331902" y="348267"/>
                  <a:pt x="1282535" y="336675"/>
                  <a:pt x="1282535" y="336675"/>
                </a:cubicBezTo>
                <a:cubicBezTo>
                  <a:pt x="1198575" y="280701"/>
                  <a:pt x="1302516" y="350948"/>
                  <a:pt x="1199408" y="277298"/>
                </a:cubicBezTo>
                <a:cubicBezTo>
                  <a:pt x="1187794" y="269002"/>
                  <a:pt x="1176824" y="259344"/>
                  <a:pt x="1163782" y="253547"/>
                </a:cubicBezTo>
                <a:cubicBezTo>
                  <a:pt x="1140904" y="243379"/>
                  <a:pt x="1116281" y="237714"/>
                  <a:pt x="1092530" y="229797"/>
                </a:cubicBezTo>
                <a:cubicBezTo>
                  <a:pt x="1092523" y="229795"/>
                  <a:pt x="1021286" y="206047"/>
                  <a:pt x="1021278" y="206046"/>
                </a:cubicBezTo>
                <a:lnTo>
                  <a:pt x="950026" y="194171"/>
                </a:lnTo>
                <a:cubicBezTo>
                  <a:pt x="910442" y="178337"/>
                  <a:pt x="869406" y="165735"/>
                  <a:pt x="831273" y="146669"/>
                </a:cubicBezTo>
                <a:cubicBezTo>
                  <a:pt x="815439" y="138752"/>
                  <a:pt x="799141" y="131702"/>
                  <a:pt x="783771" y="122919"/>
                </a:cubicBezTo>
                <a:cubicBezTo>
                  <a:pt x="771379" y="115838"/>
                  <a:pt x="761187" y="104965"/>
                  <a:pt x="748145" y="99168"/>
                </a:cubicBezTo>
                <a:cubicBezTo>
                  <a:pt x="725267" y="89000"/>
                  <a:pt x="700644" y="83334"/>
                  <a:pt x="676893" y="75417"/>
                </a:cubicBezTo>
                <a:lnTo>
                  <a:pt x="641267" y="63542"/>
                </a:lnTo>
                <a:cubicBezTo>
                  <a:pt x="629392" y="55625"/>
                  <a:pt x="619879" y="40784"/>
                  <a:pt x="605641" y="39791"/>
                </a:cubicBezTo>
                <a:cubicBezTo>
                  <a:pt x="35302" y="0"/>
                  <a:pt x="287432" y="80183"/>
                  <a:pt x="95002" y="16041"/>
                </a:cubicBezTo>
                <a:cubicBezTo>
                  <a:pt x="75210" y="19999"/>
                  <a:pt x="53151" y="17902"/>
                  <a:pt x="35626" y="27916"/>
                </a:cubicBezTo>
                <a:cubicBezTo>
                  <a:pt x="16667" y="38750"/>
                  <a:pt x="6096" y="80881"/>
                  <a:pt x="0" y="99168"/>
                </a:cubicBezTo>
                <a:cubicBezTo>
                  <a:pt x="3958" y="182295"/>
                  <a:pt x="4964" y="265616"/>
                  <a:pt x="11875" y="348550"/>
                </a:cubicBezTo>
                <a:cubicBezTo>
                  <a:pt x="12915" y="361024"/>
                  <a:pt x="14899" y="375325"/>
                  <a:pt x="23750" y="384176"/>
                </a:cubicBezTo>
                <a:cubicBezTo>
                  <a:pt x="43934" y="404360"/>
                  <a:pt x="71251" y="415843"/>
                  <a:pt x="95002" y="431677"/>
                </a:cubicBezTo>
                <a:lnTo>
                  <a:pt x="130628" y="455428"/>
                </a:lnTo>
                <a:cubicBezTo>
                  <a:pt x="138545" y="467303"/>
                  <a:pt x="143234" y="482138"/>
                  <a:pt x="154379" y="491054"/>
                </a:cubicBezTo>
                <a:cubicBezTo>
                  <a:pt x="164154" y="498874"/>
                  <a:pt x="178809" y="497331"/>
                  <a:pt x="190005" y="502929"/>
                </a:cubicBezTo>
                <a:cubicBezTo>
                  <a:pt x="202771" y="509312"/>
                  <a:pt x="213756" y="518763"/>
                  <a:pt x="225631" y="526680"/>
                </a:cubicBezTo>
                <a:cubicBezTo>
                  <a:pt x="248984" y="561709"/>
                  <a:pt x="250720" y="569359"/>
                  <a:pt x="285008" y="597932"/>
                </a:cubicBezTo>
                <a:cubicBezTo>
                  <a:pt x="295972" y="607069"/>
                  <a:pt x="308759" y="613765"/>
                  <a:pt x="320634" y="621682"/>
                </a:cubicBezTo>
                <a:lnTo>
                  <a:pt x="368135" y="764186"/>
                </a:lnTo>
                <a:cubicBezTo>
                  <a:pt x="372093" y="776061"/>
                  <a:pt x="373066" y="789397"/>
                  <a:pt x="380010" y="799812"/>
                </a:cubicBezTo>
                <a:cubicBezTo>
                  <a:pt x="395844" y="823563"/>
                  <a:pt x="403762" y="855230"/>
                  <a:pt x="427512" y="871064"/>
                </a:cubicBezTo>
                <a:lnTo>
                  <a:pt x="463137" y="894815"/>
                </a:lnTo>
                <a:lnTo>
                  <a:pt x="475013" y="918565"/>
                </a:lnTo>
                <a:close/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TextBox 22"/>
          <p:cNvSpPr/>
          <p:nvPr/>
        </p:nvSpPr>
        <p:spPr>
          <a:xfrm>
            <a:off x="1871640" y="4697280"/>
            <a:ext cx="42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TextBox 13"/>
          <p:cNvSpPr/>
          <p:nvPr/>
        </p:nvSpPr>
        <p:spPr>
          <a:xfrm>
            <a:off x="2819520" y="476280"/>
            <a:ext cx="420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智勇大闯关：第一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8" name="Picture 2" descr="10"/>
          <p:cNvPicPr/>
          <p:nvPr/>
        </p:nvPicPr>
        <p:blipFill>
          <a:blip r:embed="rId1"/>
          <a:stretch/>
        </p:blipFill>
        <p:spPr>
          <a:xfrm>
            <a:off x="857160" y="857160"/>
            <a:ext cx="1594080" cy="782640"/>
          </a:xfrm>
          <a:prstGeom prst="rect">
            <a:avLst/>
          </a:prstGeom>
          <a:ln w="0">
            <a:noFill/>
          </a:ln>
        </p:spPr>
      </p:pic>
      <p:sp>
        <p:nvSpPr>
          <p:cNvPr id="839" name="TextBox 4"/>
          <p:cNvSpPr/>
          <p:nvPr/>
        </p:nvSpPr>
        <p:spPr>
          <a:xfrm>
            <a:off x="500040" y="1643040"/>
            <a:ext cx="414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圈一圈，填一填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0" name="图片 16" descr="8.png"/>
          <p:cNvPicPr/>
          <p:nvPr/>
        </p:nvPicPr>
        <p:blipFill>
          <a:blip r:embed="rId2"/>
          <a:stretch/>
        </p:blipFill>
        <p:spPr>
          <a:xfrm>
            <a:off x="641520" y="2227320"/>
            <a:ext cx="3854160" cy="1728720"/>
          </a:xfrm>
          <a:prstGeom prst="rect">
            <a:avLst/>
          </a:prstGeom>
          <a:ln w="0">
            <a:noFill/>
          </a:ln>
        </p:spPr>
      </p:pic>
      <p:pic>
        <p:nvPicPr>
          <p:cNvPr id="841" name="图片 23" descr="9.png"/>
          <p:cNvPicPr/>
          <p:nvPr/>
        </p:nvPicPr>
        <p:blipFill>
          <a:blip r:embed="rId3"/>
          <a:srcRect l="14316" t="12085" r="0" b="45317"/>
          <a:stretch/>
        </p:blipFill>
        <p:spPr>
          <a:xfrm>
            <a:off x="857160" y="4021200"/>
            <a:ext cx="3541680" cy="1041480"/>
          </a:xfrm>
          <a:prstGeom prst="rect">
            <a:avLst/>
          </a:prstGeom>
          <a:ln w="0">
            <a:noFill/>
          </a:ln>
        </p:spPr>
      </p:pic>
      <p:sp>
        <p:nvSpPr>
          <p:cNvPr id="842" name="TextBox 24"/>
          <p:cNvSpPr/>
          <p:nvPr/>
        </p:nvSpPr>
        <p:spPr>
          <a:xfrm>
            <a:off x="1214280" y="4541760"/>
            <a:ext cx="42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3" name="图片 23" descr="9.png"/>
          <p:cNvPicPr/>
          <p:nvPr/>
        </p:nvPicPr>
        <p:blipFill>
          <a:blip r:embed="rId4"/>
          <a:srcRect l="14316" t="54381" r="0" b="0"/>
          <a:stretch/>
        </p:blipFill>
        <p:spPr>
          <a:xfrm>
            <a:off x="4929120" y="4195800"/>
            <a:ext cx="3651480" cy="1152360"/>
          </a:xfrm>
          <a:prstGeom prst="rect">
            <a:avLst/>
          </a:prstGeom>
          <a:ln w="0">
            <a:noFill/>
          </a:ln>
        </p:spPr>
      </p:pic>
      <p:pic>
        <p:nvPicPr>
          <p:cNvPr id="844" name="图片 16" descr="8.png"/>
          <p:cNvPicPr/>
          <p:nvPr/>
        </p:nvPicPr>
        <p:blipFill>
          <a:blip r:embed="rId5"/>
          <a:stretch/>
        </p:blipFill>
        <p:spPr>
          <a:xfrm>
            <a:off x="4643280" y="2227320"/>
            <a:ext cx="4131000" cy="1728720"/>
          </a:xfrm>
          <a:prstGeom prst="rect">
            <a:avLst/>
          </a:prstGeom>
          <a:ln w="0">
            <a:noFill/>
          </a:ln>
        </p:spPr>
      </p:pic>
      <p:sp>
        <p:nvSpPr>
          <p:cNvPr id="845" name="TextBox 9"/>
          <p:cNvSpPr/>
          <p:nvPr/>
        </p:nvSpPr>
        <p:spPr>
          <a:xfrm>
            <a:off x="5860800" y="45655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TextBox 10"/>
          <p:cNvSpPr/>
          <p:nvPr/>
        </p:nvSpPr>
        <p:spPr>
          <a:xfrm>
            <a:off x="295920" y="4173480"/>
            <a:ext cx="69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TextBox 11"/>
          <p:cNvSpPr/>
          <p:nvPr/>
        </p:nvSpPr>
        <p:spPr>
          <a:xfrm>
            <a:off x="4537440" y="4195800"/>
            <a:ext cx="69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TextBox 7"/>
          <p:cNvSpPr/>
          <p:nvPr/>
        </p:nvSpPr>
        <p:spPr>
          <a:xfrm>
            <a:off x="2819520" y="476280"/>
            <a:ext cx="420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智勇大闯关：第二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8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9" name="Picture 2" descr="10"/>
          <p:cNvPicPr/>
          <p:nvPr/>
        </p:nvPicPr>
        <p:blipFill>
          <a:blip r:embed="rId1"/>
          <a:stretch/>
        </p:blipFill>
        <p:spPr>
          <a:xfrm>
            <a:off x="857160" y="887400"/>
            <a:ext cx="1594080" cy="782640"/>
          </a:xfrm>
          <a:prstGeom prst="rect">
            <a:avLst/>
          </a:prstGeom>
          <a:ln w="0">
            <a:noFill/>
          </a:ln>
        </p:spPr>
      </p:pic>
      <p:sp>
        <p:nvSpPr>
          <p:cNvPr id="850" name="TextBox 4"/>
          <p:cNvSpPr/>
          <p:nvPr/>
        </p:nvSpPr>
        <p:spPr>
          <a:xfrm>
            <a:off x="525600" y="1652760"/>
            <a:ext cx="418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圈一圈，算一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1" name="图片 5" descr="10.png"/>
          <p:cNvPicPr/>
          <p:nvPr/>
        </p:nvPicPr>
        <p:blipFill>
          <a:blip r:embed="rId2"/>
          <a:stretch/>
        </p:blipFill>
        <p:spPr>
          <a:xfrm>
            <a:off x="214200" y="2405160"/>
            <a:ext cx="4130640" cy="1903320"/>
          </a:xfrm>
          <a:prstGeom prst="rect">
            <a:avLst/>
          </a:prstGeom>
          <a:ln w="0">
            <a:noFill/>
          </a:ln>
        </p:spPr>
      </p:pic>
      <p:pic>
        <p:nvPicPr>
          <p:cNvPr id="852" name="图片 6" descr="11.png"/>
          <p:cNvPicPr/>
          <p:nvPr/>
        </p:nvPicPr>
        <p:blipFill>
          <a:blip r:embed="rId3"/>
          <a:stretch/>
        </p:blipFill>
        <p:spPr>
          <a:xfrm>
            <a:off x="4711680" y="2857680"/>
            <a:ext cx="4311720" cy="2714400"/>
          </a:xfrm>
          <a:prstGeom prst="rect">
            <a:avLst/>
          </a:prstGeom>
          <a:ln w="0">
            <a:noFill/>
          </a:ln>
        </p:spPr>
      </p:pic>
      <p:sp>
        <p:nvSpPr>
          <p:cNvPr id="853" name="Oval 7"/>
          <p:cNvSpPr/>
          <p:nvPr/>
        </p:nvSpPr>
        <p:spPr>
          <a:xfrm>
            <a:off x="4711680" y="2857680"/>
            <a:ext cx="2165400" cy="50004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Oval 10"/>
          <p:cNvSpPr/>
          <p:nvPr/>
        </p:nvSpPr>
        <p:spPr>
          <a:xfrm>
            <a:off x="6858000" y="2857680"/>
            <a:ext cx="2165400" cy="50004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Oval 11"/>
          <p:cNvSpPr/>
          <p:nvPr/>
        </p:nvSpPr>
        <p:spPr>
          <a:xfrm>
            <a:off x="4711680" y="3360600"/>
            <a:ext cx="2165400" cy="50004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Oval 12"/>
          <p:cNvSpPr/>
          <p:nvPr/>
        </p:nvSpPr>
        <p:spPr>
          <a:xfrm>
            <a:off x="6870600" y="3360600"/>
            <a:ext cx="2165400" cy="50004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Oval 13"/>
          <p:cNvSpPr/>
          <p:nvPr/>
        </p:nvSpPr>
        <p:spPr>
          <a:xfrm>
            <a:off x="4716360" y="3860640"/>
            <a:ext cx="2165400" cy="50040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Oval 14"/>
          <p:cNvSpPr/>
          <p:nvPr/>
        </p:nvSpPr>
        <p:spPr>
          <a:xfrm>
            <a:off x="6870600" y="3865680"/>
            <a:ext cx="2165400" cy="50004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Text Box 15"/>
          <p:cNvSpPr/>
          <p:nvPr/>
        </p:nvSpPr>
        <p:spPr>
          <a:xfrm>
            <a:off x="857160" y="4308480"/>
            <a:ext cx="33544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）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8x3=24(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个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答：一共收了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4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个西瓜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Text Box 16"/>
          <p:cNvSpPr/>
          <p:nvPr/>
        </p:nvSpPr>
        <p:spPr>
          <a:xfrm>
            <a:off x="826920" y="5300640"/>
            <a:ext cx="439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）答：需要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个纸箱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TextBox 5"/>
          <p:cNvSpPr/>
          <p:nvPr/>
        </p:nvSpPr>
        <p:spPr>
          <a:xfrm>
            <a:off x="2819520" y="476280"/>
            <a:ext cx="420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智勇大闯关：第三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Administrator</dc:creator>
  <dc:description/>
  <dc:language>en-US</dc:language>
  <cp:lastModifiedBy>Administrator</cp:lastModifiedBy>
  <dcterms:modified xsi:type="dcterms:W3CDTF">2018-11-15T14:27:56Z</dcterms:modified>
  <cp:revision>12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</Properties>
</file>